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Kiss.wav" ContentType="audio/x-wav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chimes.wav" ContentType="audio/x-wav"/>
  <Override PartName="/ppt/media/image1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.gif" ContentType="image/gif"/>
  <Override PartName="/ppt/media/image5.wmf" ContentType="image/x-wmf"/>
  <Override PartName="/ppt/media/image10.png" ContentType="image/png"/>
  <Override PartName="/ppt/media/glass.wav" ContentType="audio/x-wav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.gif" ContentType="image/gif"/>
  <Override PartName="/ppt/media/image20.jpeg" ContentType="image/jpeg"/>
  <Override PartName="/ppt/media/UnchainedMelody%20(2m%2034s)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BF7-7837-40AB-8CA0-031E641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C1E-8578-4481-8E8A-2C112F0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523-DCAD-4ABD-8FA0-A5BE58E3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938-8DE4-4A4F-82D9-282E76F8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5C10-A0D2-4329-9504-5126BFCE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5CE9-E5A1-4430-9526-D8C6DB8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0C3-20A0-4923-8C5C-A4C7303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A0B0-8A4B-4428-8353-D9332A5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7E7-FA37-412B-8A17-CF66EF2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CEE-0FD9-4A49-AD11-B50E8BF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207-CC0A-4FA8-A846-5812B38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8C3-2685-44C6-8F53-D603F7C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F6CE-2A7A-4F0F-88BE-4DCD80B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CE6-7C3C-4F81-B279-5CC9E68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12A8-6126-49D2-ADEF-0900EFA2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0218-DA1F-40EA-8230-E44452A9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40F4-8086-4552-BE65-613FF9DC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69E-AA59-4B16-98E5-FD0054B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C66-3E8A-4BA0-B078-DA93F64F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A65-058D-499C-9418-AB0875AD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86B-9361-4F3C-9D4A-2F8C7DC9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9DE-DA1C-4238-A41C-754B387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546-3D2F-45BA-94BF-645DEB7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384-8362-4BA2-887E-99300CB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A60-8E1A-43DE-B41A-17FAAFCEA4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7CD-5543-4DE3-A224-E59DB9C338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1.xml"/><Relationship Id="rId3" Type="http://schemas.openxmlformats.org/officeDocument/2006/relationships/slide" Target="slide13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1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2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5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audio" Target="../media/Kis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UnchainedMelody%20(2m%2034s).wav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G grapjes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ame [1] . pps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ebed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ebedje Lef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Gebed van een b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020000" y="765000"/>
            <a:ext cx="1368360" cy="8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 rot="16200000">
            <a:off x="2915280" y="2781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Waar bevindt zich de G spot</a:t>
            </a:r>
            <a:r>
              <a:rPr b="0" lang="en-GB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448080" cy="3451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Van een vrouw ?</a:t>
            </a:r>
            <a:r>
              <a:rPr b="0" lang="en-GB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dbbd71"/>
                </a:solidFill>
                <a:latin typeface="BankGothic Lt BT"/>
                <a:ea typeface="Courier New"/>
              </a:rPr>
              <a:t>Na verscheidene tests......</a:t>
            </a: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UTurnArrow">
            <a:hlinkClick r:id="rId3" action="ppaction://hlinksldjump"/>
          </p:cNvPr>
          <p:cNvSpPr/>
          <p:nvPr/>
        </p:nvSpPr>
        <p:spPr>
          <a:xfrm>
            <a:off x="250920" y="26028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58920" y="260280"/>
            <a:ext cx="4824360" cy="5184720"/>
          </a:xfrm>
          <a:prstGeom prst="ellipse">
            <a:avLst/>
          </a:prstGeom>
          <a:gradFill rotWithShape="0">
            <a:gsLst>
              <a:gs pos="0">
                <a:srgbClr val="ffffcc">
                  <a:alpha val="6117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tebulb">
            <a:hlinkClick r:id="rId2" action="ppaction://hlinksldjump"/>
          </p:cNvPr>
          <p:cNvSpPr/>
          <p:nvPr/>
        </p:nvSpPr>
        <p:spPr>
          <a:xfrm>
            <a:off x="4091040" y="2349360"/>
            <a:ext cx="961920" cy="1301760"/>
          </a:xfrm>
          <a:prstGeom prst="pie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Hebben ze ontdekt dat deze zich bevindt achteraan het woord...</a:t>
            </a:r>
            <a:r>
              <a:rPr b="0" lang="pt-PT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SHOPPIN</a:t>
            </a:r>
            <a:r>
              <a:rPr b="0" lang="pt-PT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93680"/>
            <a:ext cx="8891640" cy="6470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851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667240" cy="1832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219320" y="274320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Lucida Handwriting"/>
              </a:rPr>
              <a:t>Gij zult de dorstigen laven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6019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Laat ons dus bidden met de woord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251460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Onze Jupiler die in da fleske z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heiligd is Uw smaa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w walm ko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w alcohol beïnvlo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it een glas of uit het fles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228600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2209680"/>
            <a:ext cx="8382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ef ons heden ons dagelijks bi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en vergeef ons onze zat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lijk ook wij vergeven aan onszel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en leid ons niet tot een deliriu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maar verlos ons van de k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Am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209680" cy="151776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056120" y="380880"/>
            <a:ext cx="5087880" cy="6477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143000" y="938160"/>
            <a:ext cx="281952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Leffe die in de hemel zeit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naam worde gebrouwen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bar zal komen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drank zal vloeien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Gelijk in deze kroeg zoals ook bij ons thuis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Geef ons heden ons dagelijks bier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en vergeef ons onze katers. 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0" y="57913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0" y="83808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0" y="48006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0" y="3809880"/>
            <a:ext cx="1096920" cy="857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8" name="glas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989520" y="380880"/>
            <a:ext cx="5154480" cy="6477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43000" y="914400"/>
            <a:ext cx="2666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Zoals wij ook de barman vergeven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en leid ons niet naar de frisdrank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maar verlos ons van het malt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Want uw bier is het koninkrijk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en de kracht en de heerlijkheid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tot aan sluitingstijd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PROOS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287640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0" y="83808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0" y="38671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0" y="1886040"/>
            <a:ext cx="1096920" cy="8571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8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9" name="K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19280" y="2276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cffcc"/>
                </a:solidFill>
                <a:latin typeface="Arial"/>
              </a:rPr>
              <a:t>Tu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623736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996600"/>
                </a:solidFill>
                <a:latin typeface="Eurostile"/>
              </a:rPr>
              <a:t>- </a:t>
            </a:r>
            <a:r>
              <a:rPr b="0" lang="nl-NL" sz="1200" spc="-1" strike="noStrike">
                <a:solidFill>
                  <a:srgbClr val="996600"/>
                </a:solidFill>
                <a:latin typeface="Arial"/>
              </a:rPr>
              <a:t>Om te navigeren kunt u klikken op de pijl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916360" y="429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600"/>
                </a:solidFill>
                <a:latin typeface="Arial"/>
              </a:rPr>
              <a:t>stelt v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157640" cy="9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619280" y="1557360"/>
            <a:ext cx="63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Gebed v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19280" y="3645000"/>
            <a:ext cx="655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en boom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996600"/>
                </a:solidFill>
                <a:latin typeface="Arial"/>
              </a:rPr>
              <a:t>Mens, luister eens naar mij …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76360" y="1125360"/>
            <a:ext cx="6264360" cy="431964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43280" y="692280"/>
            <a:ext cx="2244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Tijdens de koude november- nachten geef ik warmte in je huis.</a:t>
            </a:r>
            <a:br>
              <a:rPr sz="2800"/>
            </a:b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Het is door mij te verbruiken dat je je kan verwarm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geef je verfrissende schaduw onder de brandende zon in de zomer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87640" y="1989000"/>
            <a:ext cx="5832360" cy="446436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84360" y="1341000"/>
            <a:ext cx="26751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geraamte v</a:t>
            </a: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an jouw huis en geef je een dak waaronder je kan schuil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6920" y="549360"/>
            <a:ext cx="4321440" cy="568800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3527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blad van jouw tafel en de stoel waarop je je kan uitrust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549360"/>
            <a:ext cx="4032360" cy="575928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24360" y="1557000"/>
            <a:ext cx="2881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"/>
              </a:rPr>
              <a:t>Ik ben het gewelf van jouw kerken en kathedral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549360"/>
            <a:ext cx="4464000" cy="575928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866920" y="1557360"/>
            <a:ext cx="2675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bed waarin je kan rusten na een dag van zwaar werk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549360"/>
            <a:ext cx="4535280" cy="568800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2881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levende materie  waardoor de harmonieuze klanken van de viool en de fluit ontstaa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1640" y="476280"/>
            <a:ext cx="4392720" cy="57610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273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"/>
              </a:rPr>
              <a:t>Ik ben het hout waarmee je jouw boten maak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35280" y="549360"/>
            <a:ext cx="4824360" cy="56880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309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handvat van jouw sikkel, de schaats van jouw slede en het hekken van jouw omheining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549360"/>
            <a:ext cx="3961080" cy="568800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00720" y="907920"/>
            <a:ext cx="2376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koffer met jouw bezittingen, de rol die jouw deeg kneedt en de lepel die jouw soep omroer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1989000"/>
            <a:ext cx="5688000" cy="431964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2736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wieg van jouw kind en zal jouw kist zijn als je deze wereld verlaa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0360" y="404640"/>
            <a:ext cx="4608360" cy="604872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84720" y="1125000"/>
            <a:ext cx="305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96600"/>
                </a:solidFill>
                <a:latin typeface="Arial"/>
              </a:rPr>
              <a:t>Wil je dan asjeblieft stoppen met steeds tegen mij te pissen !!!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620640"/>
            <a:ext cx="5040360" cy="5616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 rot="16200000">
            <a:off x="2915280" y="2781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1-27T18:32:34Z</dcterms:modified>
  <cp:revision>67</cp:revision>
  <dc:subject/>
  <dc:title>Dia 1</dc:title>
</cp:coreProperties>
</file>