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Kiss.wav" ContentType="audio/x-wav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chimes.wav" ContentType="audio/x-wav"/>
  <Override PartName="/ppt/media/image16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.gif" ContentType="image/gif"/>
  <Override PartName="/ppt/media/image5.wmf" ContentType="image/x-wmf"/>
  <Override PartName="/ppt/media/image10.png" ContentType="image/png"/>
  <Override PartName="/ppt/media/glass.wav" ContentType="audio/x-wav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.gif" ContentType="image/gif"/>
  <Override PartName="/ppt/media/image20.jpeg" ContentType="image/jpeg"/>
  <Override PartName="/ppt/media/UnchainedMelody%20(2m%2034s)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8F6-5265-40F7-91D8-F71C75DD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390-FEE1-4CE5-B786-7D48EC47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8FA-DB3A-42D7-8711-BFD3B8E4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7DF-FF34-4C2D-AAD4-15977540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FA96-ED3C-4C37-81AF-4062109A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BAD1-4874-4FED-BA0F-CE434BE6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DB03-BFB5-473C-AAF1-49C521E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213-FF01-4F8E-8BBE-26B2B57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8B2-4917-4467-A2C5-23F44B6A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474-03F1-4171-94D5-2465AE54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E993-FE7E-40FD-8ECD-8D4E82A0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5B6-3AAD-428A-A615-95420BC9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914-3460-40D0-BDBC-AB2FCD1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4734-84DC-488E-9E7E-792D78F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16A9-C035-484C-B9AF-AAC5F996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9B9B-611A-4DAC-A15C-7D31F76D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47E8-7126-40DB-A5BE-DA5360B4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9AD-1FB9-4FE9-9723-CE6F6964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B46-2364-40AA-89EF-D496CDB6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367-BDE8-4F56-A189-120CC16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8C1-6592-4903-96E3-6C5E00B7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22C-A99B-400B-88CF-5AB6EFE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945-3F9F-400C-A2FC-4490FAA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568-6A54-4665-9D70-10EBC61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863B-93F0-4C78-A2A0-F6337747C3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0CAE-8824-4764-81B8-A15765E706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1.xml"/><Relationship Id="rId3" Type="http://schemas.openxmlformats.org/officeDocument/2006/relationships/slide" Target="slide13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9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slide" Target="slide2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1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9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2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0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5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audio" Target="../media/Kis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UnchainedMelody%20(2m%2034s).wav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G grapjes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G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Game [1] . pps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ebed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Gebedje Lef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ahoma"/>
              </a:rPr>
              <a:t>Gebed van een b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020000" y="765000"/>
            <a:ext cx="1368360" cy="8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 rot="16200000">
            <a:off x="2915280" y="2781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4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3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Waar bevindt zich de G spot</a:t>
            </a:r>
            <a:r>
              <a:rPr b="0" lang="en-GB" sz="4400" spc="-1" strike="noStrike">
                <a:solidFill>
                  <a:srgbClr val="dbbd71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448080" cy="3451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12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Van een vrouw ?</a:t>
            </a:r>
            <a:r>
              <a:rPr b="0" lang="en-GB" sz="4400" spc="-1" strike="noStrike">
                <a:solidFill>
                  <a:srgbClr val="dbbd71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dbbd71"/>
                </a:solidFill>
                <a:latin typeface="BankGothic Lt BT"/>
                <a:ea typeface="Courier New"/>
              </a:rPr>
              <a:t>Na verscheidene tests......</a:t>
            </a:r>
            <a:br>
              <a:rPr sz="54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UTurnArrow">
            <a:hlinkClick r:id="rId3" action="ppaction://hlinksldjump"/>
          </p:cNvPr>
          <p:cNvSpPr/>
          <p:nvPr/>
        </p:nvSpPr>
        <p:spPr>
          <a:xfrm>
            <a:off x="250920" y="26028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58920" y="260280"/>
            <a:ext cx="4824360" cy="5184720"/>
          </a:xfrm>
          <a:prstGeom prst="ellipse">
            <a:avLst/>
          </a:prstGeom>
          <a:gradFill rotWithShape="0">
            <a:gsLst>
              <a:gs pos="0">
                <a:srgbClr val="ffffcc">
                  <a:alpha val="6117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tebulb">
            <a:hlinkClick r:id="rId2" action="ppaction://hlinksldjump"/>
          </p:cNvPr>
          <p:cNvSpPr/>
          <p:nvPr/>
        </p:nvSpPr>
        <p:spPr>
          <a:xfrm>
            <a:off x="4091040" y="2349360"/>
            <a:ext cx="961920" cy="1301760"/>
          </a:xfrm>
          <a:prstGeom prst="pie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Hebben ze ontdekt dat deze zich bevindt achteraan het woord...</a:t>
            </a:r>
            <a:r>
              <a:rPr b="0" lang="pt-PT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>
            <a:hlinkClick r:id="rId3" action="ppaction://hlinksldjump"/>
          </p:cNvPr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BankGothic Lt BT"/>
                <a:ea typeface="Times New Roman"/>
              </a:rPr>
              <a:t>SHOPPIN</a:t>
            </a:r>
            <a:r>
              <a:rPr b="0" lang="pt-PT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2915280" y="27799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93680"/>
            <a:ext cx="8891640" cy="6470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85128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667240" cy="1832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219320" y="274320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Lucida Handwriting"/>
              </a:rPr>
              <a:t>Gij zult de dorstigen laven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6019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Laat ons dus bidden met de woord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251460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Onze Jupiler die in da fleske zi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Geheiligd is Uw smaa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Uw walm kom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Uw alcohol beïnvlo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Uit een glas of uit het fles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2286000" cy="15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2209680"/>
            <a:ext cx="8382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Geef ons heden ons dagelijks bi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en vergeef ons onze zathei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gelijk ook wij vergeven aan onszel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en leid ons niet tot een deliriu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maar verlos ons van de k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Handwriting"/>
              </a:rPr>
              <a:t>Ame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209680" cy="151776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056120" y="380880"/>
            <a:ext cx="5087880" cy="6477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143000" y="938160"/>
            <a:ext cx="281952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Leffe die in de hemel zeit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uw naam worde gebrouwen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Uw bar zal komen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uw drank zal vloeien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Gelijk in deze kroeg zoals ook bij ons thuis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Geef ons heden ons dagelijks bier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Schneidler Blk BT"/>
                <a:ea typeface="Times New Roman"/>
              </a:rPr>
              <a:t>en vergeef ons onze katers. 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0" y="57913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0" y="838080"/>
            <a:ext cx="1096920" cy="857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0" y="480060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0" y="3809880"/>
            <a:ext cx="1096920" cy="857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  <p:sndAc>
      <p:stSnd>
        <p:snd r:embed="rId8" name="glas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989520" y="380880"/>
            <a:ext cx="5154480" cy="6477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143000" y="914400"/>
            <a:ext cx="2666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Zoals wij ook de barman vergeven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en leid ons niet naar de frisdrank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maar verlos ons van het malt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Want uw bier is het koninkrijk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en de kracht en de heerlijkheid,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tot aan sluitingstijd. 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f8a500"/>
                </a:solidFill>
                <a:latin typeface="Arrus Blk BT"/>
                <a:ea typeface="Times New Roman"/>
              </a:rPr>
              <a:t>PROOS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2876400"/>
            <a:ext cx="1096920" cy="857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0" y="48769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0" y="838080"/>
            <a:ext cx="1096920" cy="857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0" y="3867120"/>
            <a:ext cx="1096920" cy="857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0" y="1886040"/>
            <a:ext cx="1096920" cy="85716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rId8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  <p:sndAc>
      <p:stSnd>
        <p:snd r:embed="rId9" name="K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19280" y="2276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cffcc"/>
                </a:solidFill>
                <a:latin typeface="Arial"/>
              </a:rPr>
              <a:t>Tu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623736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996600"/>
                </a:solidFill>
                <a:latin typeface="Eurostile"/>
              </a:rPr>
              <a:t>- </a:t>
            </a:r>
            <a:r>
              <a:rPr b="0" lang="nl-NL" sz="1200" spc="-1" strike="noStrike">
                <a:solidFill>
                  <a:srgbClr val="996600"/>
                </a:solidFill>
                <a:latin typeface="Arial"/>
              </a:rPr>
              <a:t>Om te navigeren kunt u klikken op de pijl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916360" y="4292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600"/>
                </a:solidFill>
                <a:latin typeface="Arial"/>
              </a:rPr>
              <a:t>stelt v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157640" cy="9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619280" y="1557360"/>
            <a:ext cx="633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Gebed v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619280" y="3645000"/>
            <a:ext cx="655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en boom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996600"/>
                </a:solidFill>
                <a:latin typeface="Arial"/>
              </a:rPr>
              <a:t>Mens, luister eens naar mij …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76360" y="1125360"/>
            <a:ext cx="6264360" cy="431964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43280" y="692280"/>
            <a:ext cx="2244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Tijdens de koude november- nachten geef ik warmte in je huis.</a:t>
            </a:r>
            <a:br>
              <a:rPr sz="2800"/>
            </a:b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Het is door mij te verbruiken dat je je kan verwarm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geef je verfrissende schaduw onder de brandende zon in de zomer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87640" y="1989000"/>
            <a:ext cx="5832360" cy="446436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84360" y="1341000"/>
            <a:ext cx="26751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geraamte v</a:t>
            </a: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an jouw huis en geef je een dak waaronder je kan schuil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26920" y="549360"/>
            <a:ext cx="4321440" cy="5688000"/>
          </a:xfrm>
          <a:prstGeom prst="rect">
            <a:avLst/>
          </a:prstGeom>
          <a:noFill/>
          <a:ln w="9360">
            <a:solidFill>
              <a:srgbClr val="969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3527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blad van jouw tafel en de stoel waarop je je kan uitrust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549360"/>
            <a:ext cx="4032360" cy="575928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24360" y="1557000"/>
            <a:ext cx="2881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Arial"/>
              </a:rPr>
              <a:t>Ik ben het gewelf van jouw kerken en kathedral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4360" y="549360"/>
            <a:ext cx="4464000" cy="5759280"/>
          </a:xfrm>
          <a:prstGeom prst="rect">
            <a:avLst/>
          </a:prstGeom>
          <a:noFill/>
          <a:ln w="9360">
            <a:solidFill>
              <a:srgbClr val="969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866920" y="1557360"/>
            <a:ext cx="2675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bed waarin je kan rusten na een dag van zwaar werke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549360"/>
            <a:ext cx="4535280" cy="5688000"/>
          </a:xfrm>
          <a:prstGeom prst="rect">
            <a:avLst/>
          </a:prstGeom>
          <a:noFill/>
          <a:ln w="9360">
            <a:solidFill>
              <a:srgbClr val="969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2881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de levende materie  waardoor de harmonieuze klanken van de viool en de fluit ontstaan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11640" y="476280"/>
            <a:ext cx="4392720" cy="57610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273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Arial"/>
              </a:rPr>
              <a:t>Ik ben het hout waarmee je jouw boten maakt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35280" y="549360"/>
            <a:ext cx="4824360" cy="56880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3097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het handvat van jouw sikkel, de schaats van jouw slede en het hekken van jouw omheining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43280" y="549360"/>
            <a:ext cx="3961080" cy="568800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300720" y="907920"/>
            <a:ext cx="2376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de koffer met jouw bezittingen, de rol die jouw deeg kneedt en de lepel die jouw soep omroert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9640" y="1989000"/>
            <a:ext cx="5688000" cy="431964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2736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96600"/>
                </a:solidFill>
                <a:latin typeface="Arial"/>
              </a:rPr>
              <a:t>Ik ben de wieg van jouw kind en zal jouw kist zijn als je deze wereld verlaat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40360" y="404640"/>
            <a:ext cx="4608360" cy="6048720"/>
          </a:xfrm>
          <a:prstGeom prst="rect">
            <a:avLst/>
          </a:prstGeom>
          <a:noFill/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84720" y="1125000"/>
            <a:ext cx="3059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96600"/>
                </a:solidFill>
                <a:latin typeface="Arial"/>
              </a:rPr>
              <a:t>Wil je dan asjeblieft stoppen met steeds tegen mij te pissen !!!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620640"/>
            <a:ext cx="5040360" cy="5616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2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 rot="16200000">
            <a:off x="2915280" y="2781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 rot="5400000">
            <a:off x="5652000" y="278028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4282920" y="141300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 rot="10800000">
            <a:off x="4282560" y="4149720"/>
            <a:ext cx="576360" cy="1295280"/>
          </a:xfrm>
          <a:prstGeom prst="upArrow">
            <a:avLst>
              <a:gd name="adj1" fmla="val 50000"/>
              <a:gd name="adj2" fmla="val 561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1-27T18:32:34Z</dcterms:modified>
  <cp:revision>67</cp:revision>
  <dc:subject/>
  <dc:title>Dia 1</dc:title>
</cp:coreProperties>
</file>