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5DCA4-C583-4065-8B4A-3065DCD52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1BA65-AB45-4399-8204-8AD53C7BF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F7CCD-F2A3-452B-A386-D9F442931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3CD21-8FDB-4824-8348-CE58EAEC3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D02B0-8A22-4CF9-A568-2A1A709B0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39367-5978-4839-B5FF-D8844D80C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441A7-F0AF-497F-972C-DE8F14CF0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C6111-FCCC-4D6E-AB20-31D2980BD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CA4C3-C095-4C7E-9A16-356E22BBE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E5F2F-BC3A-4974-9849-FDE63E218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BB585-0026-4B69-BE4A-25DED4790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8B93F-9F9F-4298-8AD3-C3AA75F84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BAF16-4ABA-4CA4-B3DC-BB1CED7C919A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9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그림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9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9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9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9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22T01:22:16Z</dcterms:created>
  <dc:creator>All user</dc:creator>
  <dc:description/>
  <dc:language>en-US</dc:language>
  <cp:lastModifiedBy>jseo7@ad.brown.edu</cp:lastModifiedBy>
  <dcterms:modified xsi:type="dcterms:W3CDTF">2021-03-06T07:49:01Z</dcterms:modified>
  <cp:revision>26</cp:revision>
  <dc:subject/>
  <dc:title>슬라이드 1</dc:title>
</cp:coreProperties>
</file>