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981-4009-48AF-A3FF-E253957F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2187-21C9-42CE-B551-EC65EF19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2B56-0203-4F69-8311-9DAA0471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1B9-7016-480D-95CA-4DBDD218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464-EC27-4F8E-B793-C6968277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325-5D20-4504-9673-E061FFDB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E87-6C0C-4E48-931B-EE55EC75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EFA-3EC0-41AD-AF4A-7E8C48F1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A01-C043-40EC-8F3E-9219E8D3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A63-2FDD-401D-B6BC-351E9F92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5CE-8126-449D-AF2E-40787D56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B89-4CF5-42B3-9195-335025A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99A-654A-4F99-AA5C-B81C68A9644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07:49:01Z</dcterms:modified>
  <cp:revision>26</cp:revision>
  <dc:subject/>
  <dc:title>슬라이드 1</dc:title>
</cp:coreProperties>
</file>