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0B4-AAB0-4C06-97CD-F2AE5428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5A2-3B73-45CC-B613-8C4ADE97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8D3-4417-4462-AFA0-F9196D12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A8D-B6ED-466B-88AD-DC671285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6AF-8238-4C54-BE53-AEFD7800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71E-CF18-4970-897D-65911B4D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1A1-3B79-4F80-81B6-49894515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277-3428-4D97-A1AF-B821B93C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968-39B3-4E77-800D-267AA2AB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273-24B1-436F-ABAE-4DE25B9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EB7-417C-46C7-AD27-0E5F9BD2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0CB-0806-4ED8-ADBE-8AA0A05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5C94-7B17-4E7E-B13E-3939FA0ABF5D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E78C-78F4-4CB5-8288-0937F9959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formatique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442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. Namar Ydr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s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7360" y="533520"/>
            <a:ext cx="2358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iversité Pari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nthéon - As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F80-2A46-4988-8D54-85C2A37442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C8093-3449-4222-A2D1-59707D3F61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9280" y="9586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/ So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9528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stème d’exploi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Interface, standardisée, entre machine physique et logici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33720" y="1828800"/>
            <a:ext cx="4419360" cy="2438280"/>
            <a:chOff x="2133720" y="1828800"/>
            <a:chExt cx="4419360" cy="2438280"/>
          </a:xfrm>
        </p:grpSpPr>
        <p:grpSp>
          <p:nvGrpSpPr>
            <p:cNvPr id="128" name=""/>
            <p:cNvGrpSpPr/>
            <p:nvPr/>
          </p:nvGrpSpPr>
          <p:grpSpPr>
            <a:xfrm>
              <a:off x="2133720" y="1828800"/>
              <a:ext cx="4267080" cy="2438280"/>
              <a:chOff x="2133720" y="1828800"/>
              <a:chExt cx="4267080" cy="243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743200" y="2971800"/>
                <a:ext cx="31240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ystème d’exploit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133720" y="3581280"/>
                <a:ext cx="426708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physiq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71800" y="2362320"/>
                <a:ext cx="26668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angages évolué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29000" y="1828800"/>
                <a:ext cx="1752480" cy="53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gici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Windows" descr=""/>
            <p:cNvPicPr/>
            <p:nvPr/>
          </p:nvPicPr>
          <p:blipFill>
            <a:blip r:embed="rId1"/>
            <a:stretch/>
          </p:blipFill>
          <p:spPr>
            <a:xfrm>
              <a:off x="6019920" y="3048120"/>
              <a:ext cx="533160" cy="40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961-FE9B-4433-8689-08E35B5B05A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8815C-ABAB-4B22-85EC-B7749A5C04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57200" y="3552840"/>
            <a:ext cx="8686440" cy="1572120"/>
            <a:chOff x="457200" y="3552840"/>
            <a:chExt cx="8686440" cy="1572120"/>
          </a:xfrm>
        </p:grpSpPr>
        <p:sp>
          <p:nvSpPr>
            <p:cNvPr id="135" name=""/>
            <p:cNvSpPr/>
            <p:nvPr/>
          </p:nvSpPr>
          <p:spPr>
            <a:xfrm>
              <a:off x="926640" y="3552840"/>
              <a:ext cx="8217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Exemples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MS-DOS (PC), Mac-OS (Macintosh), Windows NT (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NIX(sur SUN par exple: industrie), Linux (UNIX pour 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Windows" descr=""/>
            <p:cNvPicPr/>
            <p:nvPr/>
          </p:nvPicPr>
          <p:blipFill>
            <a:blip r:embed="rId1"/>
            <a:stretch/>
          </p:blipFill>
          <p:spPr>
            <a:xfrm>
              <a:off x="457200" y="3629160"/>
              <a:ext cx="37476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380880" y="1571760"/>
            <a:ext cx="7772400" cy="1572120"/>
            <a:chOff x="380880" y="1571760"/>
            <a:chExt cx="7772400" cy="1572120"/>
          </a:xfrm>
        </p:grpSpPr>
        <p:sp>
          <p:nvSpPr>
            <p:cNvPr id="138" name=""/>
            <p:cNvSpPr/>
            <p:nvPr/>
          </p:nvSpPr>
          <p:spPr>
            <a:xfrm>
              <a:off x="838080" y="1571760"/>
              <a:ext cx="73152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ôl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stion de la mémoire, gestion de fichier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rées/sorties, communications entre processus, et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Windows" descr=""/>
            <p:cNvPicPr/>
            <p:nvPr/>
          </p:nvPicPr>
          <p:blipFill>
            <a:blip r:embed="rId2"/>
            <a:stretch/>
          </p:blipFill>
          <p:spPr>
            <a:xfrm>
              <a:off x="380880" y="1612800"/>
              <a:ext cx="36540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1981080" y="838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ystème(s) d’explo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723-B22A-4EE6-B324-468F3C56CC9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25EFE-9325-47B0-B4F5-2DA5A46D6E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362320" y="380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Fichiers et de réperto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4325760"/>
            <a:ext cx="8076600" cy="1742760"/>
            <a:chOff x="685800" y="4325760"/>
            <a:chExt cx="8076600" cy="1742760"/>
          </a:xfrm>
        </p:grpSpPr>
        <p:grpSp>
          <p:nvGrpSpPr>
            <p:cNvPr id="143" name=""/>
            <p:cNvGrpSpPr/>
            <p:nvPr/>
          </p:nvGrpSpPr>
          <p:grpSpPr>
            <a:xfrm>
              <a:off x="685800" y="4325760"/>
              <a:ext cx="7994160" cy="865080"/>
              <a:chOff x="685800" y="4325760"/>
              <a:chExt cx="7994160" cy="865080"/>
            </a:xfrm>
          </p:grpSpPr>
          <p:pic>
            <p:nvPicPr>
              <p:cNvPr id="144" name="Flech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4522320"/>
                <a:ext cx="185040" cy="1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15200" y="4325760"/>
                <a:ext cx="7664760" cy="86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fichier exécutabl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Logiciel d’application (traitement de texte, tableur, etc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85800" y="5316480"/>
              <a:ext cx="8076600" cy="752040"/>
              <a:chOff x="685800" y="5316480"/>
              <a:chExt cx="8076600" cy="752040"/>
            </a:xfrm>
          </p:grpSpPr>
          <p:pic>
            <p:nvPicPr>
              <p:cNvPr id="147" name="Fleche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5468760"/>
                <a:ext cx="185040" cy="1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015200" y="5316480"/>
                <a:ext cx="7747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fichier de donnéesFichier de texte, feuille de calcul, base de données, e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09480" y="990720"/>
            <a:ext cx="7391520" cy="1381680"/>
            <a:chOff x="609480" y="990720"/>
            <a:chExt cx="7391520" cy="1381680"/>
          </a:xfrm>
        </p:grpSpPr>
        <p:sp>
          <p:nvSpPr>
            <p:cNvPr id="150" name=""/>
            <p:cNvSpPr/>
            <p:nvPr/>
          </p:nvSpPr>
          <p:spPr>
            <a:xfrm>
              <a:off x="925200" y="990720"/>
              <a:ext cx="70758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Fichier (Fi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semble d’informations élémentaires stocké de manière contigu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Doc1" descr=""/>
            <p:cNvPicPr/>
            <p:nvPr/>
          </p:nvPicPr>
          <p:blipFill>
            <a:blip r:embed="rId3"/>
            <a:stretch/>
          </p:blipFill>
          <p:spPr>
            <a:xfrm>
              <a:off x="609480" y="990720"/>
              <a:ext cx="281880" cy="72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990720" y="22860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ractères codés (ASCII pour les caractères latins, Unicode) : A est 65 en décimal ou 41 en hexadécimal :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100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0001 en bi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4290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és sur disque de manière logique                                          De préférence regroupés dans d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2A5-68C7-4103-8F8F-B7C9A4FFBFE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D80BA-F22A-4263-9DC4-B3AC6C152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28600" y="838080"/>
            <a:ext cx="9215280" cy="1101600"/>
            <a:chOff x="228600" y="838080"/>
            <a:chExt cx="9215280" cy="1101600"/>
          </a:xfrm>
        </p:grpSpPr>
        <p:sp>
          <p:nvSpPr>
            <p:cNvPr id="155" name=""/>
            <p:cNvSpPr/>
            <p:nvPr/>
          </p:nvSpPr>
          <p:spPr>
            <a:xfrm>
              <a:off x="838080" y="923760"/>
              <a:ext cx="860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épertoire (Director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semble de fichiers ou d’autres répertoires (sous-répertoir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Dossier" descr="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533520" cy="4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456840" y="2286000"/>
            <a:ext cx="6858360" cy="576360"/>
            <a:chOff x="456840" y="2286000"/>
            <a:chExt cx="6858360" cy="576360"/>
          </a:xfrm>
        </p:grpSpPr>
        <p:sp>
          <p:nvSpPr>
            <p:cNvPr id="158" name=""/>
            <p:cNvSpPr/>
            <p:nvPr/>
          </p:nvSpPr>
          <p:spPr>
            <a:xfrm>
              <a:off x="457200" y="22860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rborescence de fichiers et de réperto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56840" y="2362320"/>
              <a:ext cx="481320" cy="500040"/>
              <a:chOff x="456840" y="2362320"/>
              <a:chExt cx="481320" cy="500040"/>
            </a:xfrm>
          </p:grpSpPr>
          <p:sp>
            <p:nvSpPr>
              <p:cNvPr id="160" name=""/>
              <p:cNvSpPr/>
              <p:nvPr/>
            </p:nvSpPr>
            <p:spPr>
              <a:xfrm flipH="1">
                <a:off x="456840" y="2362320"/>
                <a:ext cx="215640" cy="500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2840" y="2362320"/>
                <a:ext cx="0" cy="500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2840" y="2362320"/>
                <a:ext cx="265320" cy="500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735200" y="2819520"/>
            <a:ext cx="4358880" cy="3402000"/>
            <a:chOff x="1735200" y="2819520"/>
            <a:chExt cx="4358880" cy="3402000"/>
          </a:xfrm>
        </p:grpSpPr>
        <p:grpSp>
          <p:nvGrpSpPr>
            <p:cNvPr id="164" name=""/>
            <p:cNvGrpSpPr/>
            <p:nvPr/>
          </p:nvGrpSpPr>
          <p:grpSpPr>
            <a:xfrm>
              <a:off x="3639600" y="3110760"/>
              <a:ext cx="2286000" cy="1798200"/>
              <a:chOff x="3639600" y="3110760"/>
              <a:chExt cx="2286000" cy="179820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32160" y="3110760"/>
                <a:ext cx="719280" cy="653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51800" y="3151440"/>
                <a:ext cx="0" cy="6130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51800" y="3110760"/>
                <a:ext cx="550080" cy="653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851280" y="3764520"/>
                <a:ext cx="38088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32160" y="3764520"/>
                <a:ext cx="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639600" y="4459680"/>
                <a:ext cx="211320" cy="449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51280" y="4459680"/>
                <a:ext cx="296280" cy="408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4570920" y="3764520"/>
                <a:ext cx="38088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51800" y="3764520"/>
                <a:ext cx="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51800" y="3764520"/>
                <a:ext cx="46548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02240" y="3764520"/>
                <a:ext cx="42336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735200" y="2988000"/>
              <a:ext cx="1440000" cy="32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c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œud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uilles            fichiers f1,…f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4600" y="48225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98600" y="48225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1240" y="355608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4960" y="2819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7440" y="355608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36800" y="355608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36280" y="43736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44240" y="43736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67960" y="43736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624852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F0B-D47B-4EF3-876A-918E61BA649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01102-D3FF-4DDA-A41F-ACEF3F53ED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609480" y="2071800"/>
            <a:ext cx="7772400" cy="520560"/>
            <a:chOff x="609480" y="2071800"/>
            <a:chExt cx="7772400" cy="520560"/>
          </a:xfrm>
        </p:grpSpPr>
        <p:pic>
          <p:nvPicPr>
            <p:cNvPr id="188" name="Fleche2" descr=""/>
            <p:cNvPicPr/>
            <p:nvPr/>
          </p:nvPicPr>
          <p:blipFill>
            <a:blip r:embed="rId1"/>
            <a:stretch/>
          </p:blipFill>
          <p:spPr>
            <a:xfrm>
              <a:off x="609480" y="214776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66680" y="207180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cine : burea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057400" y="99072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Structure des fichiers Wind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9480" y="4191120"/>
            <a:ext cx="8821800" cy="520560"/>
            <a:chOff x="609480" y="4191120"/>
            <a:chExt cx="8821800" cy="520560"/>
          </a:xfrm>
        </p:grpSpPr>
        <p:pic>
          <p:nvPicPr>
            <p:cNvPr id="192" name="Fleche2" descr=""/>
            <p:cNvPicPr/>
            <p:nvPr/>
          </p:nvPicPr>
          <p:blipFill>
            <a:blip r:embed="rId2"/>
            <a:stretch/>
          </p:blipFill>
          <p:spPr>
            <a:xfrm>
              <a:off x="609480" y="428148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066680" y="4191120"/>
              <a:ext cx="836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épertoire Disques  A (disquette),B, C (disque dur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27120" y="3124080"/>
            <a:ext cx="8821800" cy="520560"/>
            <a:chOff x="627120" y="3124080"/>
            <a:chExt cx="8821800" cy="520560"/>
          </a:xfrm>
        </p:grpSpPr>
        <p:pic>
          <p:nvPicPr>
            <p:cNvPr id="195" name="Fleche2" descr=""/>
            <p:cNvPicPr/>
            <p:nvPr/>
          </p:nvPicPr>
          <p:blipFill>
            <a:blip r:embed="rId3"/>
            <a:stretch/>
          </p:blipFill>
          <p:spPr>
            <a:xfrm>
              <a:off x="627120" y="321444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084320" y="3124080"/>
              <a:ext cx="836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épertoire : Poste de trava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BBD-3C65-4BCE-A962-30850D71D008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C219F-B4CE-42EC-AF56-76570C6965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ature des donné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e (Éditeurs : Bloc-Notes, Textpad et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oix, image, vidé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Suffixe des fich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e : .txt, .doc, .html, .p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mage : .gif, .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idéo : .ra, .m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gramme : 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730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Types de fichi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F10-FAC1-41DC-B866-E119B582E8E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8FB3A-7E40-4CE9-8316-8DAFF0E20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05120" y="6094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Ouverture d’un fich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457200" cy="4572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438280"/>
            <a:ext cx="167652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56120" y="4572000"/>
            <a:ext cx="1799280" cy="653400"/>
            <a:chOff x="1356120" y="4572000"/>
            <a:chExt cx="1799280" cy="653400"/>
          </a:xfrm>
        </p:grpSpPr>
        <p:sp>
          <p:nvSpPr>
            <p:cNvPr id="203" name=""/>
            <p:cNvSpPr/>
            <p:nvPr/>
          </p:nvSpPr>
          <p:spPr>
            <a:xfrm>
              <a:off x="1752480" y="4572000"/>
              <a:ext cx="685800" cy="15228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6120" y="4765680"/>
              <a:ext cx="17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uble cl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1523880"/>
            <a:ext cx="5105160" cy="3810240"/>
            <a:chOff x="3276720" y="1523880"/>
            <a:chExt cx="5105160" cy="3810240"/>
          </a:xfrm>
        </p:grpSpPr>
        <p:sp>
          <p:nvSpPr>
            <p:cNvPr id="206" name=""/>
            <p:cNvSpPr/>
            <p:nvPr/>
          </p:nvSpPr>
          <p:spPr>
            <a:xfrm>
              <a:off x="3276720" y="1981080"/>
              <a:ext cx="685800" cy="152640"/>
            </a:xfrm>
            <a:prstGeom prst="rightArrow">
              <a:avLst>
                <a:gd name="adj1" fmla="val 50000"/>
                <a:gd name="adj2" fmla="val 112323"/>
              </a:avLst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417200" y="1523880"/>
              <a:ext cx="3964680" cy="3810240"/>
              <a:chOff x="4417200" y="1523880"/>
              <a:chExt cx="3964680" cy="3810240"/>
            </a:xfrm>
          </p:grpSpPr>
          <p:sp>
            <p:nvSpPr>
              <p:cNvPr id="208" name=""/>
              <p:cNvSpPr/>
              <p:nvPr/>
            </p:nvSpPr>
            <p:spPr>
              <a:xfrm>
                <a:off x="4419720" y="1523880"/>
                <a:ext cx="3962160" cy="3810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17200" y="2336760"/>
                <a:ext cx="3640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ello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 ’est mon premier fichi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19720" y="1523880"/>
                <a:ext cx="3962160" cy="533520"/>
              </a:xfrm>
              <a:prstGeom prst="rect">
                <a:avLst/>
              </a:prstGeom>
              <a:solidFill>
                <a:srgbClr val="b2b2b2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mman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561-17D4-478A-A117-B46A4AB7771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8A4D6-59E3-4AB3-A0D1-A33CDEEFDF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762120"/>
            <a:ext cx="647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Copier et Installer un program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ier un fichier .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compresser le fichier (UN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0000000000000    : 1 suivi d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ractère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0000000000000                          1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0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llation : Répertoire et sous-fich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3505320"/>
            <a:ext cx="1828800" cy="916560"/>
            <a:chOff x="3886200" y="3505320"/>
            <a:chExt cx="1828800" cy="916560"/>
          </a:xfrm>
        </p:grpSpPr>
        <p:sp>
          <p:nvSpPr>
            <p:cNvPr id="214" name=""/>
            <p:cNvSpPr/>
            <p:nvPr/>
          </p:nvSpPr>
          <p:spPr>
            <a:xfrm>
              <a:off x="3962520" y="4038480"/>
              <a:ext cx="1752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886200" y="3886200"/>
              <a:ext cx="1752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114440" y="3505320"/>
              <a:ext cx="1294920" cy="916560"/>
              <a:chOff x="4114440" y="3505320"/>
              <a:chExt cx="1294920" cy="916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190400" y="4114800"/>
                <a:ext cx="1127160" cy="307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ress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14440" y="3505320"/>
                <a:ext cx="1294920" cy="3070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écompress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CDE-48F9-43D5-A836-9787DBAC63C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B6FAA-B03E-4423-9E27-5D3F651178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m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133720"/>
            <a:ext cx="3276720" cy="41464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4343400"/>
            <a:ext cx="3276720" cy="22860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343400"/>
            <a:ext cx="4419720" cy="3049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876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re : 32 bits (4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21352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449568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ti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111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dage, Édition et Rés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88B-1B95-4A37-A8A6-05FD1FB7245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4BB7F-DC8C-4AF9-8A7A-45E19918F3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binai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 0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décim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+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2  +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2  +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2  + 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  + 32 + 4 + 2 + 1  = 1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hexadécim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6   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1010 1100  =  A   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dage de l’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53E-1E80-4CAD-B6B6-D9CB91AB8DF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294B5-F2DB-419F-9EC5-DA27F1358C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Histor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0200"/>
            <a:ext cx="84582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lculatrices 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lculs = Additions et comparaisons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stockage des résultats temporaires (mémoir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84582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Von Neumann (1946)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otion  d’ordinateur : Calculs +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otion d’alternative                                                         (si a&gt;b alors faire ceci sinon faire cela…)                       = données placées dans la mémo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36A-6AD8-420A-9022-D71576E719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C4CA0-FA60-422E-9B6E-EEC7E114AD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657600" y="1752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8827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hitecture de la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676520"/>
            <a:ext cx="2819520" cy="42670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952880"/>
            <a:ext cx="2819520" cy="9907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200400"/>
            <a:ext cx="2514600" cy="1676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sateu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1828800"/>
            <a:ext cx="2362320" cy="12952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sateu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3505320"/>
            <a:ext cx="2819520" cy="17524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4495680"/>
            <a:ext cx="609480" cy="609840"/>
          </a:xfrm>
          <a:prstGeom prst="rect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4495680"/>
            <a:ext cx="1143000" cy="6098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3657600"/>
            <a:ext cx="609480" cy="609480"/>
          </a:xfrm>
          <a:prstGeom prst="rect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3657600"/>
            <a:ext cx="1143000" cy="6094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50080" y="198108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1 : éditeur (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8840" y="259380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2 : navigateur (netsc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129-6B6D-486E-AD21-C2D338825802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50944-4E0D-428B-A92F-455A8B83B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914400" y="2057400"/>
            <a:ext cx="7772400" cy="459720"/>
            <a:chOff x="914400" y="2057400"/>
            <a:chExt cx="7772400" cy="459720"/>
          </a:xfrm>
        </p:grpSpPr>
        <p:pic>
          <p:nvPicPr>
            <p:cNvPr id="246" name="Fleche2" descr=""/>
            <p:cNvPicPr/>
            <p:nvPr/>
          </p:nvPicPr>
          <p:blipFill>
            <a:blip r:embed="rId1"/>
            <a:stretch/>
          </p:blipFill>
          <p:spPr>
            <a:xfrm>
              <a:off x="914400" y="213336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20574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Éditeur :  TEXTP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914400" y="3886200"/>
            <a:ext cx="7162920" cy="459720"/>
            <a:chOff x="914400" y="3886200"/>
            <a:chExt cx="7162920" cy="459720"/>
          </a:xfrm>
        </p:grpSpPr>
        <p:sp>
          <p:nvSpPr>
            <p:cNvPr id="249" name=""/>
            <p:cNvSpPr/>
            <p:nvPr/>
          </p:nvSpPr>
          <p:spPr>
            <a:xfrm>
              <a:off x="1295280" y="388620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Éditeur HTML  : Dreamwea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Fleche2" descr=""/>
            <p:cNvPicPr/>
            <p:nvPr/>
          </p:nvPicPr>
          <p:blipFill>
            <a:blip r:embed="rId2"/>
            <a:stretch/>
          </p:blipFill>
          <p:spPr>
            <a:xfrm>
              <a:off x="914400" y="3962520"/>
              <a:ext cx="2444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914400" y="2987640"/>
            <a:ext cx="5715000" cy="825480"/>
            <a:chOff x="914400" y="2987640"/>
            <a:chExt cx="5715000" cy="825480"/>
          </a:xfrm>
        </p:grpSpPr>
        <p:sp>
          <p:nvSpPr>
            <p:cNvPr id="252" name=""/>
            <p:cNvSpPr/>
            <p:nvPr/>
          </p:nvSpPr>
          <p:spPr>
            <a:xfrm>
              <a:off x="1371600" y="2987640"/>
              <a:ext cx="525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Navigateurs : Netscape, Explo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Fleche2" descr=""/>
            <p:cNvPicPr/>
            <p:nvPr/>
          </p:nvPicPr>
          <p:blipFill>
            <a:blip r:embed="rId3"/>
            <a:stretch/>
          </p:blipFill>
          <p:spPr>
            <a:xfrm>
              <a:off x="914400" y="3139920"/>
              <a:ext cx="2444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3048120" y="914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3EF-E1DA-4678-B0CD-62BE974DBB50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E5F46-8194-4251-8006-8EEB0A93D0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914400" y="1981080"/>
            <a:ext cx="7772400" cy="1925280"/>
            <a:chOff x="914400" y="1981080"/>
            <a:chExt cx="7772400" cy="1925280"/>
          </a:xfrm>
        </p:grpSpPr>
        <p:pic>
          <p:nvPicPr>
            <p:cNvPr id="256" name="Fleche2" descr=""/>
            <p:cNvPicPr/>
            <p:nvPr/>
          </p:nvPicPr>
          <p:blipFill>
            <a:blip r:embed="rId1"/>
            <a:stretch/>
          </p:blipFill>
          <p:spPr>
            <a:xfrm>
              <a:off x="914400" y="205704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371600" y="1981080"/>
              <a:ext cx="7315200" cy="19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arte modem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rveur connecté à un mode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onnexion à un fournisseur d ’accè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124080" y="914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8080" y="3809880"/>
            <a:ext cx="7772400" cy="1446840"/>
            <a:chOff x="838080" y="3809880"/>
            <a:chExt cx="7772400" cy="1446840"/>
          </a:xfrm>
        </p:grpSpPr>
        <p:pic>
          <p:nvPicPr>
            <p:cNvPr id="260" name="Fleche2" descr=""/>
            <p:cNvPicPr/>
            <p:nvPr/>
          </p:nvPicPr>
          <p:blipFill>
            <a:blip r:embed="rId2"/>
            <a:stretch/>
          </p:blipFill>
          <p:spPr>
            <a:xfrm>
              <a:off x="838080" y="388584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295280" y="3809880"/>
              <a:ext cx="7315200" cy="14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arte résea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Ter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tation de travai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506-BD0B-4011-A0ED-5659E5FBDB8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E726E-DA3B-4A27-AAC6-7C70F93C06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124080" y="685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Rés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73800" y="475128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seau local                 Réseau Internet              Réseau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1676520"/>
            <a:ext cx="2895840" cy="2666880"/>
            <a:chOff x="838080" y="1676520"/>
            <a:chExt cx="2895840" cy="2666880"/>
          </a:xfrm>
        </p:grpSpPr>
        <p:sp>
          <p:nvSpPr>
            <p:cNvPr id="265" name=""/>
            <p:cNvSpPr/>
            <p:nvPr/>
          </p:nvSpPr>
          <p:spPr>
            <a:xfrm>
              <a:off x="2209680" y="1676520"/>
              <a:ext cx="0" cy="2666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99840" y="22096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599840" y="304812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1981080"/>
              <a:ext cx="762120" cy="457200"/>
            </a:xfrm>
            <a:prstGeom prst="rect">
              <a:avLst/>
            </a:prstGeom>
            <a:solidFill>
              <a:srgbClr val="3333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14400" y="2819520"/>
              <a:ext cx="685800" cy="380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3962520"/>
              <a:ext cx="1524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962520" y="3962520"/>
            <a:ext cx="1447560" cy="0"/>
            <a:chOff x="3962520" y="3962520"/>
            <a:chExt cx="1447560" cy="0"/>
          </a:xfrm>
        </p:grpSpPr>
        <p:sp>
          <p:nvSpPr>
            <p:cNvPr id="272" name=""/>
            <p:cNvSpPr/>
            <p:nvPr/>
          </p:nvSpPr>
          <p:spPr>
            <a:xfrm>
              <a:off x="3962520" y="3962520"/>
              <a:ext cx="53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00600" y="396252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715000" y="1752480"/>
            <a:ext cx="2743200" cy="2667240"/>
            <a:chOff x="5715000" y="1752480"/>
            <a:chExt cx="2743200" cy="2667240"/>
          </a:xfrm>
        </p:grpSpPr>
        <p:sp>
          <p:nvSpPr>
            <p:cNvPr id="275" name=""/>
            <p:cNvSpPr/>
            <p:nvPr/>
          </p:nvSpPr>
          <p:spPr>
            <a:xfrm>
              <a:off x="7467480" y="1752480"/>
              <a:ext cx="0" cy="2667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7480" y="2119320"/>
              <a:ext cx="381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7480" y="295740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48720" y="1890720"/>
              <a:ext cx="533160" cy="45720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24680" y="2805120"/>
              <a:ext cx="533520" cy="38088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5000" y="3962520"/>
              <a:ext cx="1752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41E-96D5-48D9-913B-08AA7E021220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12D76-972C-400C-B356-E3FAB00CE4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828800" y="990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Transmission dans le Réseau 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4400" y="2209680"/>
            <a:ext cx="1371240" cy="457200"/>
            <a:chOff x="914400" y="2209680"/>
            <a:chExt cx="1371240" cy="457200"/>
          </a:xfrm>
        </p:grpSpPr>
        <p:sp>
          <p:nvSpPr>
            <p:cNvPr id="283" name=""/>
            <p:cNvSpPr/>
            <p:nvPr/>
          </p:nvSpPr>
          <p:spPr>
            <a:xfrm flipH="1">
              <a:off x="1676160" y="24382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4400" y="2209680"/>
              <a:ext cx="762120" cy="457200"/>
            </a:xfrm>
            <a:prstGeom prst="rect">
              <a:avLst/>
            </a:prstGeom>
            <a:solidFill>
              <a:srgbClr val="3333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543800" y="3048120"/>
            <a:ext cx="990720" cy="380880"/>
            <a:chOff x="7543800" y="3048120"/>
            <a:chExt cx="990720" cy="380880"/>
          </a:xfrm>
        </p:grpSpPr>
        <p:sp>
          <p:nvSpPr>
            <p:cNvPr id="286" name=""/>
            <p:cNvSpPr/>
            <p:nvPr/>
          </p:nvSpPr>
          <p:spPr>
            <a:xfrm>
              <a:off x="7543800" y="320040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01000" y="3048120"/>
              <a:ext cx="533520" cy="38088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8" name=""/>
          <p:cNvCxnSpPr/>
          <p:nvPr/>
        </p:nvCxnSpPr>
        <p:spPr>
          <a:xfrm>
            <a:off x="3809520" y="2286000"/>
            <a:ext cx="1753560" cy="8388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3657600" y="2133720"/>
            <a:ext cx="22860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362320"/>
            <a:ext cx="152280" cy="1522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3886200"/>
            <a:ext cx="15264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3048120"/>
            <a:ext cx="15228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1520" y="3124080"/>
            <a:ext cx="15228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3962520"/>
            <a:ext cx="1447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3809880"/>
            <a:ext cx="15264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438280" y="2209320"/>
            <a:ext cx="121932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3048120"/>
            <a:ext cx="15264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2438280"/>
            <a:ext cx="99072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124080"/>
            <a:ext cx="152280" cy="152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05320" y="3124080"/>
            <a:ext cx="106668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15000" y="3124080"/>
            <a:ext cx="167652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2286000"/>
            <a:ext cx="228600" cy="1522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2438280"/>
            <a:ext cx="18288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209680"/>
            <a:ext cx="152280" cy="152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286000"/>
            <a:ext cx="8384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35920" y="4537080"/>
            <a:ext cx="61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quet IP (DNS : Domain Nam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tocoles :  IP, TCP, TCP/IP, ftp, telnet,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327672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3200400"/>
            <a:ext cx="60948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60B-DAC5-4EF5-A837-D23AC03DD544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DE1FC-9F74-40B8-AD40-7A9A123CF8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62320" y="53352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Adresses 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09480" y="1305000"/>
            <a:ext cx="7391160" cy="2456280"/>
            <a:chOff x="609480" y="1305000"/>
            <a:chExt cx="7391160" cy="2456280"/>
          </a:xfrm>
        </p:grpSpPr>
        <p:pic>
          <p:nvPicPr>
            <p:cNvPr id="311" name="Fleche" descr=""/>
            <p:cNvPicPr/>
            <p:nvPr/>
          </p:nvPicPr>
          <p:blipFill>
            <a:blip r:embed="rId1"/>
            <a:stretch/>
          </p:blipFill>
          <p:spPr>
            <a:xfrm>
              <a:off x="609480" y="1501560"/>
              <a:ext cx="171360" cy="1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914040" y="1305000"/>
              <a:ext cx="7086600" cy="24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2 bits : classes A,B,C,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mbre de réseaux et sous-rése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mbre de termin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09480" y="2971800"/>
            <a:ext cx="7467480" cy="459720"/>
            <a:chOff x="609480" y="2971800"/>
            <a:chExt cx="7467480" cy="459720"/>
          </a:xfrm>
        </p:grpSpPr>
        <p:pic>
          <p:nvPicPr>
            <p:cNvPr id="314" name="Fleche" descr=""/>
            <p:cNvPicPr/>
            <p:nvPr/>
          </p:nvPicPr>
          <p:blipFill>
            <a:blip r:embed="rId2"/>
            <a:stretch/>
          </p:blipFill>
          <p:spPr>
            <a:xfrm>
              <a:off x="609480" y="3124080"/>
              <a:ext cx="171360" cy="1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914040" y="297180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ttribués par NIC : Network Information 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09480" y="3733920"/>
            <a:ext cx="7467480" cy="459720"/>
            <a:chOff x="609480" y="3733920"/>
            <a:chExt cx="7467480" cy="459720"/>
          </a:xfrm>
        </p:grpSpPr>
        <p:pic>
          <p:nvPicPr>
            <p:cNvPr id="317" name="Fleche" descr=""/>
            <p:cNvPicPr/>
            <p:nvPr/>
          </p:nvPicPr>
          <p:blipFill>
            <a:blip r:embed="rId3"/>
            <a:stretch/>
          </p:blipFill>
          <p:spPr>
            <a:xfrm>
              <a:off x="609480" y="3886200"/>
              <a:ext cx="171360" cy="1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14040" y="373392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emple d ’adresse IP (Classe B) :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92.31.65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914400" y="4443480"/>
            <a:ext cx="7620120" cy="457200"/>
            <a:chOff x="914400" y="4443480"/>
            <a:chExt cx="7620120" cy="457200"/>
          </a:xfrm>
        </p:grpSpPr>
        <p:sp>
          <p:nvSpPr>
            <p:cNvPr id="320" name=""/>
            <p:cNvSpPr/>
            <p:nvPr/>
          </p:nvSpPr>
          <p:spPr>
            <a:xfrm>
              <a:off x="914400" y="4443480"/>
              <a:ext cx="762120" cy="45720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76520" y="4443480"/>
              <a:ext cx="2514600" cy="45720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4443480"/>
              <a:ext cx="1981080" cy="457200"/>
            </a:xfrm>
            <a:prstGeom prst="rect">
              <a:avLst/>
            </a:prstGeom>
            <a:solidFill>
              <a:srgbClr val="b2b2b2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us-résea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72200" y="4443480"/>
              <a:ext cx="2362320" cy="4572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rmi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46680" y="603396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4400" y="5424480"/>
            <a:ext cx="7620120" cy="619200"/>
            <a:chOff x="914400" y="5424480"/>
            <a:chExt cx="7620120" cy="619200"/>
          </a:xfrm>
        </p:grpSpPr>
        <p:sp>
          <p:nvSpPr>
            <p:cNvPr id="326" name=""/>
            <p:cNvSpPr/>
            <p:nvPr/>
          </p:nvSpPr>
          <p:spPr>
            <a:xfrm>
              <a:off x="914400" y="5967360"/>
              <a:ext cx="7620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5586480"/>
              <a:ext cx="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5586480"/>
              <a:ext cx="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534520" y="55864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66880" y="5738760"/>
              <a:ext cx="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566244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56480" y="542448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85640" y="542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66720" y="542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00800" y="5424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E97-0C1A-4952-8B11-C0D2CE3F3B6F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6735E-C57A-4444-BA7F-1D4B7DADCB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types de res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réseaux longues distances (WAN:Wide Area Networ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racteris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limite en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bits de 300 bits/s à plusieurs mégabi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0B1-652D-43DC-B718-716C0A07579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D3BB7-D1B3-4AA5-AC2D-C9E25D415F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RE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éseaux locaux  (Lan: Local Area Networ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racteris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mité en distance de 1 à 5 kilome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bits de 50 kilobits/s à 1oo mégabi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onome : géré par un administrateur priv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2 réseaux les plus utilisés so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4D0-30C6-44DC-871C-8B9F95A78F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AAA76-CB7D-4D29-9552-4D6FB6C07A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incipe de communic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pologie en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éthode d ’acces CSMA/CD (Carrier Sense Multiple Access/Collision Detec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coute permanente de la porteuse,envoi de messages si aucune trames ne circule,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 collisions éventuelles puis retransmission s ’il y a li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e de transmission en Bande de Base(codage Manchester: 1=front descendant,0=front mon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933-6EF0-4AA4-B4A9-7EB79D18FB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54970-E1BA-47A6-B1F8-7C538C33F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rmalisations commer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base 5 (ethernet thick) 5 segments consécutifs maximum de 500 mètres chac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base 2 (ethernet thin) 5 segments consécutifs maximum de 180 mètres chac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baseT (ethernet sur paires torsadé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 représente le débit (10 mégabits)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ase :le codage des bits (bande de 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BF4-8650-4F04-8093-8641B725D4E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C37CD-1B6D-4A12-928A-373FB4F19A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66680" y="609480"/>
            <a:ext cx="7467840" cy="2684520"/>
            <a:chOff x="1066680" y="609480"/>
            <a:chExt cx="7467840" cy="2684520"/>
          </a:xfrm>
        </p:grpSpPr>
        <p:sp>
          <p:nvSpPr>
            <p:cNvPr id="49" name=""/>
            <p:cNvSpPr/>
            <p:nvPr/>
          </p:nvSpPr>
          <p:spPr>
            <a:xfrm>
              <a:off x="1066680" y="609480"/>
              <a:ext cx="746784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nt 19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santes analogique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mpoule allumée = 1, Ampoule éteinte 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« Langage machine »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écomposition en commandes élémentai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Globe" descr=""/>
            <p:cNvPicPr/>
            <p:nvPr/>
          </p:nvPicPr>
          <p:blipFill>
            <a:blip r:embed="rId1"/>
            <a:stretch/>
          </p:blipFill>
          <p:spPr>
            <a:xfrm>
              <a:off x="6858000" y="1295280"/>
              <a:ext cx="6681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1143000" y="33526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1958 - 1964) Transis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1964 - 1678) Circuits intég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ystèmes d’exploitation (O.S : Operating 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 Programmes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8A2-11F4-4C3B-AB70-06EE5CA4DB8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7093F-A064-449A-8F42-2DE7828E28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 ’adressage physique d ’une carte Ethernet est composé de 6 octets (les 3 premiers sont attribués à 1constructeur,les 3 derniers gérés par celui çi, garantit l ’unicité de l ‘ adresse de la c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d ‘adresse Ma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:0:c0:66:26:1: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MC  = 0:0: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835-B4B9-47F4-A08D-02316A5BAB1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5256B-B7DC-450C-9E3F-7D73177F16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laboré par I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incipe de commun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pologie en éto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éthode d ’accès à j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rmalisations commer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ken-ring 4 méga-bi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ken-ring 16 méga-bi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BDD-24E9-4347-A48A-672C984E51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387A2-1513-4545-A3E7-01D1603BE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modèle 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SI (open system Interconn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 modèle utilise le transfet de l ’information via les 7 couches de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laboré par l ’IEEE(organisme de normalis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que couche interfère avec celle qui lui est supérieure et inférie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D62-7905-4F84-A589-FCCFD219FCD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1931F-53FA-4E0C-BF31-BA21837C04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phys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lle ci assure la transmission electrique des bits de donné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FAF-4538-4143-9D51-FC11B1948BE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7FB11-7DF9-4EDC-B16B-94CA04E955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nsforme les bits de la couche inférieure, en tr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ssure la liaison entre deux machin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ssure la detection et le contrôle d ’erreurs (checks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quittement des tr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35E-2C9B-4D09-BBCC-970769070D1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888CC-3EE0-4D3A-B8D3-95C80EE25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rése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 l ‘ adressage ,le routage, le contrôle de flux des paquet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duit la notion de 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la communication inter process via le rés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2FF-BC95-4CEB-8C7F-948810D8C72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8E978-A8F0-42EA-9046-AE0310CBED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nsforme les données machines en donnees rés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resse et crypte les donné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8F9-C3FE-456D-97AD-F8169422A93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2323C-50FD-4CB1-9D94-B68316429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 d ‘appliquer l ’ihm pour l ’ utilisat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ite de ce fait les incompatibilités des différentes machines du rés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AB4-D9AE-4678-B997-72FDBC45516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312A3-2C41-42A6-8BB1-17C054FFD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çu par le centre de recherche de la défense America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u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lier les sites milita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tre la com.ente des machines hétérog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nsfert de fichiers, terminal virtuel,messag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A4A-6318-4F46-8DD0-358FDBD2629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C6574-9718-4D93-8CDC-DABDF18536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transpo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ystème en mode connecté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tablissement du dialog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nsfert, et rupture du dialogu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e flux bout à 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té de renvoi sélectif de chaque paqu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 ‘ err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78C-F5E7-4712-BCE4-61CF3ACF150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20857-3E98-4EAB-ACFF-2A78BEEDE6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Comic Sans MS"/>
              </a:rPr>
              <a:t>Économie et Informatiq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212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i  de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issance des processeurs augmentée par 2 tous les 18 mois  (à coût cons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e Électro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seau Internet modifie les échanges 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314-8823-4E9D-9EF8-B3816CEA1BE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C8139-3AE3-4ABA-8C48-D0F95204B8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oute les datagrammes (unité de base de transmission sur le réseau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rrige les datagram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finit l ’adr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33C-FEC8-4F2E-8F07-A3A1FF11BD2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7FD23-3B64-43F4-8687-CF2E5E10E5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classes d ’adresses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2057400"/>
            <a:ext cx="1511280" cy="444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2057400"/>
            <a:ext cx="5168880" cy="4446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2971800"/>
            <a:ext cx="3041640" cy="444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2971800"/>
            <a:ext cx="3657600" cy="4446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4038480"/>
            <a:ext cx="4489560" cy="444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4038480"/>
            <a:ext cx="175284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Hos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20574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29718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29718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403848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403848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03848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5029200"/>
            <a:ext cx="6775560" cy="444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884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904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96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9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534520" y="1676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50292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5029200"/>
            <a:ext cx="216000" cy="4572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50292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50292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910-5B8C-4D89-A695-47DD710D3A5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E5F24-AEA7-455A-B27C-2B0C8A5E5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975400" y="80496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99"/>
                </a:solidFill>
                <a:latin typeface="Times New Roman"/>
              </a:rPr>
              <a:t>Protocole 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1828800"/>
            <a:ext cx="8686440" cy="1446840"/>
            <a:chOff x="533520" y="1828800"/>
            <a:chExt cx="8686440" cy="1446840"/>
          </a:xfrm>
        </p:grpSpPr>
        <p:pic>
          <p:nvPicPr>
            <p:cNvPr id="392" name="Fleche2" descr=""/>
            <p:cNvPicPr/>
            <p:nvPr/>
          </p:nvPicPr>
          <p:blipFill>
            <a:blip r:embed="rId1"/>
            <a:stretch/>
          </p:blipFill>
          <p:spPr>
            <a:xfrm>
              <a:off x="533520" y="1904760"/>
              <a:ext cx="272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044360" y="1828800"/>
              <a:ext cx="8175600" cy="14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ftp = File Transfer Protocol: perme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49"/>
                </a:spcBef>
                <a:buClr>
                  <a:srgbClr val="00cc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De télécharger des fichier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49"/>
                </a:spcBef>
                <a:buClr>
                  <a:srgbClr val="00cc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De déposer (téléverser) des fichiers dans un site donn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33520" y="3657600"/>
            <a:ext cx="8821080" cy="1521000"/>
            <a:chOff x="533520" y="3657600"/>
            <a:chExt cx="8821080" cy="1521000"/>
          </a:xfrm>
        </p:grpSpPr>
        <p:pic>
          <p:nvPicPr>
            <p:cNvPr id="395" name="Fleche2" descr=""/>
            <p:cNvPicPr/>
            <p:nvPr/>
          </p:nvPicPr>
          <p:blipFill>
            <a:blip r:embed="rId2"/>
            <a:stretch/>
          </p:blipFill>
          <p:spPr>
            <a:xfrm>
              <a:off x="533520" y="3747960"/>
              <a:ext cx="2538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990360" y="3657600"/>
              <a:ext cx="8364240" cy="15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Exemples: (accès sous Netscape ou sous Dreamweaver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://etud@ftpperso.free.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://ftpperso.free.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4B1-39EE-4383-B3CF-C095FBE7A9AA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3BE25-E243-4608-B094-C5AE715F87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974320" y="80496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Navig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09480" y="1600200"/>
            <a:ext cx="7772400" cy="1842840"/>
            <a:chOff x="609480" y="1600200"/>
            <a:chExt cx="7772400" cy="1842840"/>
          </a:xfrm>
        </p:grpSpPr>
        <p:pic>
          <p:nvPicPr>
            <p:cNvPr id="399" name="Fleche2" descr=""/>
            <p:cNvPicPr/>
            <p:nvPr/>
          </p:nvPicPr>
          <p:blipFill>
            <a:blip r:embed="rId1"/>
            <a:stretch/>
          </p:blipFill>
          <p:spPr>
            <a:xfrm>
              <a:off x="609480" y="167616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066680" y="1600200"/>
              <a:ext cx="731520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nterprète des fichiers HTML sur des sites dista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utilise un protocole d ’interaction HTTP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Gère : texte, image, vidéo,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33520" y="4572000"/>
            <a:ext cx="8610120" cy="885960"/>
            <a:chOff x="533520" y="4572000"/>
            <a:chExt cx="8610120" cy="885960"/>
          </a:xfrm>
        </p:grpSpPr>
        <p:pic>
          <p:nvPicPr>
            <p:cNvPr id="402" name="Fleche2" descr=""/>
            <p:cNvPicPr/>
            <p:nvPr/>
          </p:nvPicPr>
          <p:blipFill>
            <a:blip r:embed="rId2"/>
            <a:stretch/>
          </p:blipFill>
          <p:spPr>
            <a:xfrm>
              <a:off x="533520" y="4672800"/>
              <a:ext cx="248040" cy="34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979560" y="4572000"/>
              <a:ext cx="8164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nsemble : éditeur, gestionnaire de courrier électroniqu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33520" y="3625920"/>
            <a:ext cx="8821080" cy="489960"/>
            <a:chOff x="533520" y="3625920"/>
            <a:chExt cx="8821080" cy="489960"/>
          </a:xfrm>
        </p:grpSpPr>
        <p:pic>
          <p:nvPicPr>
            <p:cNvPr id="405" name="Fleche2" descr=""/>
            <p:cNvPicPr/>
            <p:nvPr/>
          </p:nvPicPr>
          <p:blipFill>
            <a:blip r:embed="rId3"/>
            <a:stretch/>
          </p:blipFill>
          <p:spPr>
            <a:xfrm>
              <a:off x="533520" y="3716280"/>
              <a:ext cx="2538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990360" y="3625920"/>
              <a:ext cx="8364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Netscape, Explor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8C7-7EEB-4EAA-AB05-D84D98D0323F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CBEE1-18D9-4008-9E08-F7BE0E5EF0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09480" y="1486080"/>
            <a:ext cx="7772400" cy="1343880"/>
            <a:chOff x="609480" y="1486080"/>
            <a:chExt cx="7772400" cy="1343880"/>
          </a:xfrm>
        </p:grpSpPr>
        <p:pic>
          <p:nvPicPr>
            <p:cNvPr id="408" name="Fleche2" descr=""/>
            <p:cNvPicPr/>
            <p:nvPr/>
          </p:nvPicPr>
          <p:blipFill>
            <a:blip r:embed="rId1"/>
            <a:stretch/>
          </p:blipFill>
          <p:spPr>
            <a:xfrm>
              <a:off x="609480" y="156204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066680" y="1486080"/>
              <a:ext cx="731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ccéder à des fich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irectement </a:t>
              </a: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http://www.yahoo.com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(par hyper-l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057400" y="65412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Fonctions des navigate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09480" y="4343400"/>
            <a:ext cx="8821800" cy="459720"/>
            <a:chOff x="609480" y="4343400"/>
            <a:chExt cx="8821800" cy="459720"/>
          </a:xfrm>
        </p:grpSpPr>
        <p:pic>
          <p:nvPicPr>
            <p:cNvPr id="412" name="Fleche2" descr=""/>
            <p:cNvPicPr/>
            <p:nvPr/>
          </p:nvPicPr>
          <p:blipFill>
            <a:blip r:embed="rId2"/>
            <a:stretch/>
          </p:blipFill>
          <p:spPr>
            <a:xfrm>
              <a:off x="609480" y="443376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066680" y="4343400"/>
              <a:ext cx="83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écompresser (.zi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7120" y="2895480"/>
            <a:ext cx="8821800" cy="581400"/>
            <a:chOff x="627120" y="2895480"/>
            <a:chExt cx="8821800" cy="581400"/>
          </a:xfrm>
        </p:grpSpPr>
        <p:pic>
          <p:nvPicPr>
            <p:cNvPr id="415" name="Fleche2" descr=""/>
            <p:cNvPicPr/>
            <p:nvPr/>
          </p:nvPicPr>
          <p:blipFill>
            <a:blip r:embed="rId3"/>
            <a:stretch/>
          </p:blipFill>
          <p:spPr>
            <a:xfrm>
              <a:off x="627120" y="298584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084320" y="2895480"/>
              <a:ext cx="836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préter les donnée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27120" y="5029200"/>
            <a:ext cx="8821800" cy="459720"/>
            <a:chOff x="627120" y="5029200"/>
            <a:chExt cx="8821800" cy="459720"/>
          </a:xfrm>
        </p:grpSpPr>
        <p:pic>
          <p:nvPicPr>
            <p:cNvPr id="418" name="Fleche2" descr=""/>
            <p:cNvPicPr/>
            <p:nvPr/>
          </p:nvPicPr>
          <p:blipFill>
            <a:blip r:embed="rId4"/>
            <a:stretch/>
          </p:blipFill>
          <p:spPr>
            <a:xfrm>
              <a:off x="627120" y="511956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084320" y="5029200"/>
              <a:ext cx="83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écuriser les trans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27120" y="3657600"/>
            <a:ext cx="8821800" cy="459720"/>
            <a:chOff x="627120" y="3657600"/>
            <a:chExt cx="8821800" cy="459720"/>
          </a:xfrm>
        </p:grpSpPr>
        <p:pic>
          <p:nvPicPr>
            <p:cNvPr id="421" name="Fleche2" descr=""/>
            <p:cNvPicPr/>
            <p:nvPr/>
          </p:nvPicPr>
          <p:blipFill>
            <a:blip r:embed="rId5"/>
            <a:stretch/>
          </p:blipFill>
          <p:spPr>
            <a:xfrm>
              <a:off x="627120" y="374796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084320" y="3657600"/>
              <a:ext cx="83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pier les fichiers 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ichier-&gt;Sauvegarder Sous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3FD-CB6F-4CDB-9A16-3086F5790F41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9126D-41BD-4E38-A9BD-8498BFD3B1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828800" y="7160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2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D1 /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-42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Création d’une fenêtre ftp 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sous IE6 ou Netsca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-42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Création d’un réperto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-42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Copie d’un fichier (.ph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FB0-1E52-4122-9220-4C515B186EFF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6429A-732E-4979-BB2B-AFDDB292C4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Fin" descr=""/>
          <p:cNvPicPr/>
          <p:nvPr/>
        </p:nvPicPr>
        <p:blipFill>
          <a:blip r:embed="rId1"/>
          <a:stretch/>
        </p:blipFill>
        <p:spPr>
          <a:xfrm>
            <a:off x="7086600" y="5181480"/>
            <a:ext cx="1330200" cy="876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286000" y="2743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N du cour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12A-079B-4464-A9CC-181C60AAE8E3}" type="slidenum">
              <a:t>4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6F596-9F9F-4452-8E07-8F8EC014F5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295280" y="3565440"/>
            <a:ext cx="6400800" cy="2304000"/>
            <a:chOff x="1295280" y="3565440"/>
            <a:chExt cx="6400800" cy="2304000"/>
          </a:xfrm>
        </p:grpSpPr>
        <p:sp>
          <p:nvSpPr>
            <p:cNvPr id="55" name=""/>
            <p:cNvSpPr/>
            <p:nvPr/>
          </p:nvSpPr>
          <p:spPr>
            <a:xfrm>
              <a:off x="1295280" y="3717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585144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9760" y="35654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3040" y="5241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5470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43040" y="52261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33960" y="539424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657600" y="1752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477120" y="2971800"/>
            <a:ext cx="2569320" cy="685800"/>
            <a:chOff x="6477120" y="2971800"/>
            <a:chExt cx="2569320" cy="685800"/>
          </a:xfrm>
        </p:grpSpPr>
        <p:sp>
          <p:nvSpPr>
            <p:cNvPr id="65" name=""/>
            <p:cNvSpPr/>
            <p:nvPr/>
          </p:nvSpPr>
          <p:spPr>
            <a:xfrm>
              <a:off x="6477120" y="2971800"/>
              <a:ext cx="25146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8480" y="3048120"/>
              <a:ext cx="2487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ERIPHERIQU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00160" y="2987640"/>
            <a:ext cx="2162160" cy="825480"/>
            <a:chOff x="200160" y="2987640"/>
            <a:chExt cx="2162160" cy="825480"/>
          </a:xfrm>
        </p:grpSpPr>
        <p:sp>
          <p:nvSpPr>
            <p:cNvPr id="68" name=""/>
            <p:cNvSpPr/>
            <p:nvPr/>
          </p:nvSpPr>
          <p:spPr>
            <a:xfrm>
              <a:off x="200160" y="3048120"/>
              <a:ext cx="21337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0160" y="2987640"/>
              <a:ext cx="21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émoire centr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514600" y="1905120"/>
            <a:ext cx="3504960" cy="3322080"/>
            <a:chOff x="2514600" y="1905120"/>
            <a:chExt cx="3504960" cy="3322080"/>
          </a:xfrm>
        </p:grpSpPr>
        <p:grpSp>
          <p:nvGrpSpPr>
            <p:cNvPr id="71" name=""/>
            <p:cNvGrpSpPr/>
            <p:nvPr/>
          </p:nvGrpSpPr>
          <p:grpSpPr>
            <a:xfrm>
              <a:off x="2514600" y="1905120"/>
              <a:ext cx="3504960" cy="3322080"/>
              <a:chOff x="2514600" y="1905120"/>
              <a:chExt cx="3504960" cy="332208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514600" y="2408040"/>
                <a:ext cx="3504960" cy="2819160"/>
                <a:chOff x="2514600" y="2408040"/>
                <a:chExt cx="3504960" cy="28191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514600" y="2408040"/>
                  <a:ext cx="3504960" cy="281916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7760" y="2636640"/>
                  <a:ext cx="2514600" cy="6858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047760" y="3474720"/>
                  <a:ext cx="2514600" cy="6858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47760" y="4312800"/>
                  <a:ext cx="2514600" cy="6858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3364200" y="1905120"/>
                <a:ext cx="1939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Unité Central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3133080" y="2743200"/>
              <a:ext cx="2552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Unité de comman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7680" y="3581280"/>
              <a:ext cx="979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U.A.L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9760" y="4373640"/>
              <a:ext cx="1279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egist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752480" y="8827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e de la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04F-2A03-47EC-AB46-E17F485F597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E0B43-E3A5-4A8A-80EE-DDF35B379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85800" y="1814400"/>
            <a:ext cx="7772400" cy="1015920"/>
            <a:chOff x="685800" y="1814400"/>
            <a:chExt cx="7772400" cy="1015920"/>
          </a:xfrm>
        </p:grpSpPr>
        <p:pic>
          <p:nvPicPr>
            <p:cNvPr id="83" name="Fleche2" descr=""/>
            <p:cNvPicPr/>
            <p:nvPr/>
          </p:nvPicPr>
          <p:blipFill>
            <a:blip r:embed="rId1"/>
            <a:stretch/>
          </p:blipFill>
          <p:spPr>
            <a:xfrm>
              <a:off x="685800" y="189036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43000" y="1814400"/>
              <a:ext cx="7315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ité Arithmétique et Logique (U.A.L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érations élémentaires (arithmétiques, logiques, …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048120" y="7621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Unité Centr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4191120"/>
            <a:ext cx="7162920" cy="1015920"/>
            <a:chOff x="685800" y="4191120"/>
            <a:chExt cx="7162920" cy="1015920"/>
          </a:xfrm>
        </p:grpSpPr>
        <p:sp>
          <p:nvSpPr>
            <p:cNvPr id="87" name=""/>
            <p:cNvSpPr/>
            <p:nvPr/>
          </p:nvSpPr>
          <p:spPr>
            <a:xfrm>
              <a:off x="1066680" y="4191120"/>
              <a:ext cx="67820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gistres (mémoires très rapides d’accè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ckage des informations tempor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Fleche2" descr=""/>
            <p:cNvPicPr/>
            <p:nvPr/>
          </p:nvPicPr>
          <p:blipFill>
            <a:blip r:embed="rId2"/>
            <a:stretch/>
          </p:blipFill>
          <p:spPr>
            <a:xfrm>
              <a:off x="685800" y="4267080"/>
              <a:ext cx="24444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609480" y="2973240"/>
            <a:ext cx="7391160" cy="1381680"/>
            <a:chOff x="609480" y="2973240"/>
            <a:chExt cx="7391160" cy="1381680"/>
          </a:xfrm>
        </p:grpSpPr>
        <p:sp>
          <p:nvSpPr>
            <p:cNvPr id="90" name=""/>
            <p:cNvSpPr/>
            <p:nvPr/>
          </p:nvSpPr>
          <p:spPr>
            <a:xfrm>
              <a:off x="1200600" y="2973240"/>
              <a:ext cx="680004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ité de comman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argement des instructions et décod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Fleche2" descr=""/>
            <p:cNvPicPr/>
            <p:nvPr/>
          </p:nvPicPr>
          <p:blipFill>
            <a:blip r:embed="rId3"/>
            <a:stretch/>
          </p:blipFill>
          <p:spPr>
            <a:xfrm>
              <a:off x="609480" y="3125520"/>
              <a:ext cx="31608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6934320" y="0"/>
            <a:ext cx="1676160" cy="1980720"/>
            <a:chOff x="6934320" y="0"/>
            <a:chExt cx="1676160" cy="1980720"/>
          </a:xfrm>
        </p:grpSpPr>
        <p:grpSp>
          <p:nvGrpSpPr>
            <p:cNvPr id="93" name=""/>
            <p:cNvGrpSpPr/>
            <p:nvPr/>
          </p:nvGrpSpPr>
          <p:grpSpPr>
            <a:xfrm>
              <a:off x="6934320" y="0"/>
              <a:ext cx="1676160" cy="1980720"/>
              <a:chOff x="6934320" y="0"/>
              <a:chExt cx="1676160" cy="198072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934320" y="299880"/>
                <a:ext cx="1676160" cy="1680840"/>
                <a:chOff x="6934320" y="299880"/>
                <a:chExt cx="1676160" cy="16808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934320" y="299880"/>
                  <a:ext cx="1676160" cy="1680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189200" y="435960"/>
                  <a:ext cx="1202400" cy="40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189200" y="935640"/>
                  <a:ext cx="1202400" cy="40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189200" y="1435320"/>
                  <a:ext cx="1202400" cy="40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7300080" y="0"/>
                <a:ext cx="1760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298280" y="367200"/>
              <a:ext cx="10854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Unité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comman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72800" y="954720"/>
              <a:ext cx="96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U.A.L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22680" y="1435680"/>
              <a:ext cx="1218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Regist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5A5-712C-4D3A-BC7C-8A4BFC0D7C7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2634B-6E41-4585-B0C6-633D6C7E0B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14400" y="2133720"/>
            <a:ext cx="7772400" cy="1015920"/>
            <a:chOff x="914400" y="2133720"/>
            <a:chExt cx="7772400" cy="1015920"/>
          </a:xfrm>
        </p:grpSpPr>
        <p:pic>
          <p:nvPicPr>
            <p:cNvPr id="104" name="Fleche2" descr=""/>
            <p:cNvPicPr/>
            <p:nvPr/>
          </p:nvPicPr>
          <p:blipFill>
            <a:blip r:embed="rId1"/>
            <a:stretch/>
          </p:blipFill>
          <p:spPr>
            <a:xfrm>
              <a:off x="914400" y="220968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71600" y="2133720"/>
              <a:ext cx="7315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RAM (Random Access Memor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Permet de lire les informations stockées et d’en écr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124080" y="91440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Mémoi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14400" y="3733920"/>
            <a:ext cx="7772400" cy="1015920"/>
            <a:chOff x="914400" y="3733920"/>
            <a:chExt cx="7772400" cy="1015920"/>
          </a:xfrm>
        </p:grpSpPr>
        <p:pic>
          <p:nvPicPr>
            <p:cNvPr id="108" name="Fleche2" descr=""/>
            <p:cNvPicPr/>
            <p:nvPr/>
          </p:nvPicPr>
          <p:blipFill>
            <a:blip r:embed="rId2"/>
            <a:stretch/>
          </p:blipFill>
          <p:spPr>
            <a:xfrm>
              <a:off x="914400" y="380988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71600" y="3733920"/>
              <a:ext cx="7315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ROM (Read Only Memor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Permet uniquement de lire les informations stocké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F39-4EF7-4B6D-B441-D3C1AAC6F23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CFCC8-E1F4-41EF-90A7-DC5D6F637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4038480"/>
            <a:ext cx="7467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ockage des 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sques durs (RAM), bandes magnétiques(RAM), disquettes (RAM) (capacité de 360 Ko à 1,44 Mo (HD)), CD-ROM (ROM), ZIP (RAM)(capacité de 100 Mo)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947880"/>
            <a:ext cx="8534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ockage de “mots“ machine (8, 16 ou 32 bits)                                  (1 bit = 0 ou 1, 1 octet= 8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aille de la mémoire                                                                           = Nombre de “mots“ pouvant être stockés (de 640 Ko à 256 Mo)   (1 Ko = 1024 octets, 1Mo = 1024 K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9480" y="457200"/>
            <a:ext cx="4496040" cy="459720"/>
            <a:chOff x="609480" y="457200"/>
            <a:chExt cx="4496040" cy="459720"/>
          </a:xfrm>
        </p:grpSpPr>
        <p:pic>
          <p:nvPicPr>
            <p:cNvPr id="113" name="Fleche2" descr=""/>
            <p:cNvPicPr/>
            <p:nvPr/>
          </p:nvPicPr>
          <p:blipFill>
            <a:blip r:embed="rId1"/>
            <a:stretch/>
          </p:blipFill>
          <p:spPr>
            <a:xfrm>
              <a:off x="609480" y="609480"/>
              <a:ext cx="2304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38080" y="45720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émoire centrale (RA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85800" y="3505320"/>
            <a:ext cx="4952880" cy="459720"/>
            <a:chOff x="685800" y="3505320"/>
            <a:chExt cx="4952880" cy="459720"/>
          </a:xfrm>
        </p:grpSpPr>
        <p:pic>
          <p:nvPicPr>
            <p:cNvPr id="116" name="Fleche2" descr=""/>
            <p:cNvPicPr/>
            <p:nvPr/>
          </p:nvPicPr>
          <p:blipFill>
            <a:blip r:embed="rId2"/>
            <a:stretch/>
          </p:blipFill>
          <p:spPr>
            <a:xfrm>
              <a:off x="685800" y="3657600"/>
              <a:ext cx="2300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14400" y="35053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émoires secondair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387-FA83-4CD8-843B-0654A34FC14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50487-CB74-4338-8837-8CF3059BC1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762120" y="2133720"/>
            <a:ext cx="7772400" cy="1015920"/>
            <a:chOff x="762120" y="2133720"/>
            <a:chExt cx="7772400" cy="1015920"/>
          </a:xfrm>
        </p:grpSpPr>
        <p:pic>
          <p:nvPicPr>
            <p:cNvPr id="119" name="Fleche2" descr=""/>
            <p:cNvPicPr/>
            <p:nvPr/>
          </p:nvPicPr>
          <p:blipFill>
            <a:blip r:embed="rId1"/>
            <a:stretch/>
          </p:blipFill>
          <p:spPr>
            <a:xfrm>
              <a:off x="762120" y="220968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219320" y="2133720"/>
              <a:ext cx="7315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put: Clavier,souris, lecteur optique, scanner..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utput: Moniteur, imprimante, table traçante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971800" y="990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ériphé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3657600"/>
            <a:ext cx="7848360" cy="1381680"/>
            <a:chOff x="685800" y="3657600"/>
            <a:chExt cx="7848360" cy="1381680"/>
          </a:xfrm>
        </p:grpSpPr>
        <p:pic>
          <p:nvPicPr>
            <p:cNvPr id="123" name="Fleche2" descr=""/>
            <p:cNvPicPr/>
            <p:nvPr/>
          </p:nvPicPr>
          <p:blipFill>
            <a:blip r:embed="rId2"/>
            <a:stretch/>
          </p:blipFill>
          <p:spPr>
            <a:xfrm>
              <a:off x="685800" y="3747960"/>
              <a:ext cx="226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092240" y="3657600"/>
              <a:ext cx="74419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Connections à l’ordinateu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Carte électronique spécifique (buffer ou mémoire intermédiair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358-2946-4F39-ACD9-BA9045437C8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CED55-35EE-4787-A279-54B53E53DA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23:10:20Z</dcterms:created>
  <dc:creator>GHIZ</dc:creator>
  <dc:description/>
  <dc:language>en-US</dc:language>
  <cp:lastModifiedBy>LORY</cp:lastModifiedBy>
  <dcterms:modified xsi:type="dcterms:W3CDTF">2002-11-05T21:06:08Z</dcterms:modified>
  <cp:revision>31</cp:revision>
  <dc:subject/>
  <dc:title>HTML SUITE </dc:title>
</cp:coreProperties>
</file>