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5903A-1F92-4958-BB42-4E9C3AE88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9B7-0360-497E-933D-2F686E88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F66E-621D-466F-B84E-A9EAC0FA4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2A3-12D7-45C9-849C-8E2C922E5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9DA7-A802-4ABB-92CC-071E4BB86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A71C-54CB-4606-A62B-EC488F11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B972-19EA-4396-81F9-45235B39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41DB-7596-478A-91A7-4E712723D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6314-8FDC-424A-81E5-73C2E7DF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32942-4F90-4A5E-8C08-FCF9AA06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5D73-8E16-4604-B617-51B7A416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5690-B2CF-4593-ACAA-098D8363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7403-46F6-432F-97DE-3E83CC05EA6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11-11T11:21:48Z</dcterms:modified>
  <cp:revision>17</cp:revision>
  <dc:subject/>
  <dc:title>PowerPoint Presentation</dc:title>
</cp:coreProperties>
</file>