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8364-1AF6-4D2E-A795-EA218050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F67-8A07-46BD-A65D-1E7113E4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4F2-B6E9-4D26-B4D7-FFAE5FEC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37A-109E-41BC-BA5B-5A101632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2C1-8470-4B8D-B78E-4B2A7005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417-BAB7-4F1F-A983-320E2F03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3DE-D614-4758-BA2B-F36DA049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94E-2C0E-4C11-9BAB-3A914DEA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EE4-EF9C-469D-8A3B-F119671C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018-624C-4A2B-AC07-A8254405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3B5-BCC4-4E8B-B4CD-7A038751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EE0-A8F1-491C-B5BF-880B0567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988A-8145-498A-8F59-0EB5F93822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11-11T11:21:48Z</dcterms:modified>
  <cp:revision>17</cp:revision>
  <dc:subject/>
  <dc:title>PowerPoint Presentation</dc:title>
</cp:coreProperties>
</file>