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mor%20especial-%20piano%20SUAVE%2093%20kb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A02-0E1C-440A-B9D8-C94D8DD7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BD7-CF88-43D6-94CB-0D43C567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74F-FAC4-4B01-835D-2FDD3FC3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A41-0E31-4922-82B4-D482AD98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AB7-AACF-458F-9EFC-418C06FA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B02-1893-4411-95C4-ED6163DB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19ED-F12A-4B31-8712-FCDEB5D2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277-D42B-477D-9725-0AD25260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FCD-349A-4225-8276-C60697E5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A55-37C4-40C3-BB55-88C25112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1DA-0163-466B-A11C-0AD14D12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FA4-A85E-4258-97CB-5B43E84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40F7-6DBD-435C-8A3C-2D5AE3ED3B0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or%20especial-%20piano%20SUAVE%2093%20kb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783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0" spc="-1" strike="noStrike">
                <a:solidFill>
                  <a:srgbClr val="ffffff"/>
                </a:solidFill>
                <a:latin typeface="Comic Sans MS"/>
                <a:ea typeface="Arial"/>
              </a:rPr>
              <a:t>LEVE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Tekst van Charlie Chapl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  <p:sndAc>
      <p:stSnd>
        <p:snd r:embed="rId2" name="Amor%20especial-%20piano%20SUAVE%2093%20k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19280" y="762120"/>
            <a:ext cx="5905440" cy="4113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5410080"/>
            <a:ext cx="9144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heb geweend bij het luisteren naar muziek en het bekijken van foto’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51811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heb getelefoneerd, enkel om een stem te hor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werd al verliefd bij het zien van een glimla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456160"/>
            <a:ext cx="9144000" cy="10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dacht te sterven van heimwee en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318280"/>
            <a:ext cx="9144000" cy="15958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... ik had schrik om een heel bijzonder iemand te verliezen (die ik uiteindelijk verloren heb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Maar ik heb het overleefd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520" y="533412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n ik leef nog steeds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n ik laat het leven niet links ligg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n ook jij moet dat niet doen. LEEF 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Wat echt goed i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dat is vechten met overtuiging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et leven koesteren en passioneel leve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met klasse verliezen en overwinnen door te durve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want de wereld behoort aan de durv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ET LEVEN IS TE BELANGRIJ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OM ONBETEKENEND TE ZIJN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773360"/>
            <a:ext cx="763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omic Sans MS"/>
              </a:rPr>
              <a:t>Deze presentatie mag niet bij jou blijven hangen. Stuur ze aan zoveel mogelijk vrienden en kennissen 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797000"/>
            <a:ext cx="91440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heb bijna onvergeeflijke fouten vergeve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heb geprobeerd om onvervangbare personen                  te vervang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n om onvergetelijke personen te verget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5181120"/>
            <a:ext cx="91440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k heb impulsief gehandeld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k werd ontgoocheld door mensen van wie ik het niet verwachtt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maar ik heb zelf ook mensen ontgoocheld.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5867280"/>
            <a:ext cx="9144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k heb iemand in mijn armen gehouden om hem te bescherm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62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6400800"/>
            <a:ext cx="8229600" cy="4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heb gelachen toen ik niet moc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98360"/>
            <a:ext cx="914400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heb vrieden gemaakt voor het le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5157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heb bemind en werd terugbemind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maar ik werd ook verstot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761080"/>
            <a:ext cx="914400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werd bemind en kon niet terugbeminn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5867280" cy="31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heb dikwijls geroepen van vreug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heb de liefde gek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en eeuwige beloften gedaa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aar vaak werd mijn hart gebroken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21:14:15Z</dcterms:created>
  <dc:creator>Duke</dc:creator>
  <dc:description/>
  <dc:language>en-US</dc:language>
  <cp:lastModifiedBy>Freddy</cp:lastModifiedBy>
  <dcterms:modified xsi:type="dcterms:W3CDTF">2008-07-13T07:58:48Z</dcterms:modified>
  <cp:revision>7</cp:revision>
  <dc:subject/>
  <dc:title>Diapositive 1</dc:title>
</cp:coreProperties>
</file>