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Amor%20especial-%20piano%20SUAVE%2093%20kb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D33-B48A-4B6A-97CD-D2F13ACC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CB3-88DD-4D62-818B-2A129B98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D30D-F00B-48E1-9CB3-F9D890FE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09E-5D89-48A8-9082-835BBE9A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2E5-7622-402B-BF67-946B2706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2F6F-A1D3-45AD-84A4-7A467B55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535E-EA13-41A6-BAC8-5A98CC6B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3E0-8C19-42DC-8AB8-0A257E65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F921-4A42-4DDB-AB9D-5472D015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0C6-3A17-45C4-9ACB-C23A1C85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8E5-BDD5-46B6-B064-CAC99528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4CB-5DD5-4D60-AFF3-AD615E4D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6FA6-B4BD-4041-8DCB-D7F22D103163}" type="slidenum">
              <a:rPr b="0" lang="pt-B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mor%20especial-%20piano%20SUAVE%2093%20kb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783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491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0" spc="-1" strike="noStrike">
                <a:solidFill>
                  <a:srgbClr val="ffffff"/>
                </a:solidFill>
                <a:latin typeface="Comic Sans MS"/>
                <a:ea typeface="Arial"/>
              </a:rPr>
              <a:t>LEVEN</a:t>
            </a:r>
            <a:endParaRPr b="0" lang="en-US" sz="10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324480"/>
            <a:ext cx="914400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omic Sans MS"/>
              </a:rPr>
              <a:t>Tekst van Charlie Chapl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  <p:sndAc>
      <p:stSnd>
        <p:snd r:embed="rId2" name="Amor%20especial-%20piano%20SUAVE%2093%20kb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19280" y="762120"/>
            <a:ext cx="5905440" cy="4113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5410080"/>
            <a:ext cx="9144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Ik heb geweend bij het luisteren naar muziek en het bekijken van foto’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51811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Ik heb getelefoneerd, enkel om een stem te hor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Ik werd al verliefd bij het zien van een glimla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5456160"/>
            <a:ext cx="9144000" cy="109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Ik dacht te sterven van heimwee en 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318280"/>
            <a:ext cx="9144000" cy="15958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... ik had schrik om een heel bijzonder iemand te verliezen (die ik uiteindelijk verloren heb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Maar ik heb het overleefd 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520" y="533412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En ik leef nog steeds 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En ik laat het leven niet links ligg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En ook jij moet dat niet doen. LEEF !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Wat echt goed i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dat is vechten met overtuiging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het leven koesteren en passioneel leve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met klasse verliezen en overwinnen door te durve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want de wereld behoort aan de durv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HET LEVEN IS TE BELANGRIJ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OM ONBETEKENEND TE ZIJN 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1773360"/>
            <a:ext cx="7632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Comic Sans MS"/>
              </a:rPr>
              <a:t>Deze presentatie mag niet bij jou blijven hangen. Stuur ze aan zoveel mogelijk vrienden en kennissen 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4797000"/>
            <a:ext cx="914400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Ik heb bijna onvergeeflijke fouten vergeven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ik heb geprobeerd om onvervangbare personen                  te vervang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en om onvergetelijke personen te verget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77760"/>
            <a:ext cx="9144000" cy="5668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5181120"/>
            <a:ext cx="914400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k heb impulsief gehandeld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ik werd ontgoocheld door mensen van wie ik het niet verwachtt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maar ik heb zelf ook mensen ontgoocheld.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5867280"/>
            <a:ext cx="91440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k heb iemand in mijn armen gehouden om hem te bescherm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6624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6400800"/>
            <a:ext cx="8229600" cy="48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Ik heb gelachen toen ik niet moch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98360"/>
            <a:ext cx="9144000" cy="94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Ik heb vrieden gemaakt voor het le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5157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Ik heb bemind en werd terugbemind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maar ik werd ook verstot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761080"/>
            <a:ext cx="9144000" cy="94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Ik werd bemind en kon niet terugbeminn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5867280" cy="312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Ik heb dikwijls geroepen van vreug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Ik heb de liefde gek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en eeuwige beloften gedaa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maar vaak werd mijn hart gebroken 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2T21:14:15Z</dcterms:created>
  <dc:creator>Duke</dc:creator>
  <dc:description/>
  <dc:language>en-US</dc:language>
  <cp:lastModifiedBy>Freddy</cp:lastModifiedBy>
  <dcterms:modified xsi:type="dcterms:W3CDTF">2008-07-13T07:58:48Z</dcterms:modified>
  <cp:revision>7</cp:revision>
  <dc:subject/>
  <dc:title>Diapositive 1</dc:title>
</cp:coreProperties>
</file>