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708-9D02-4A45-8DED-C6AEF942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DA0-4F04-4BB0-97D8-15739177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9CA-1895-4C49-98B0-6B197922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48C-2BB5-496C-851E-62B11EF0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267-6B83-45EC-B4AB-9814378F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C8B-11D0-47E3-AC3F-4004F7D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E96-5BD7-4AC7-AB21-96B8906F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573-C5C2-4077-BB5A-09005DBF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589-46FC-4D28-A49C-5F8F743E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F5F-935E-449E-A09D-E82F1C7D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A13-E280-4C9D-9046-2DE14C05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7C0-DE51-4ADE-B292-BD9EEFB6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04E5-A1F7-429B-8563-5E51C191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ff"/>
                </a:solidFill>
                <a:latin typeface="Kristen ITC"/>
              </a:rPr>
              <a:t>Kate la tartarug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0920" y="362124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Kristen ITC"/>
              </a:rPr>
              <a:t>Storia di una tartarughina che non aveva nessuno con cui gio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200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8864600">
            <a:off x="70635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864600">
            <a:off x="61538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8912600">
            <a:off x="530388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7525800" y="19454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rot="5400000">
            <a:off x="8462160" y="1942200"/>
            <a:ext cx="1722240" cy="86688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3609200">
            <a:off x="8071200" y="1125720"/>
            <a:ext cx="60516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3576800">
            <a:off x="8079120" y="299772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3417200">
            <a:off x="6948000" y="1985760"/>
            <a:ext cx="785880" cy="82368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-765360" y="2032560"/>
            <a:ext cx="4905720" cy="3029400"/>
            <a:chOff x="-765360" y="2032560"/>
            <a:chExt cx="4905720" cy="3029400"/>
          </a:xfrm>
        </p:grpSpPr>
        <p:sp>
          <p:nvSpPr>
            <p:cNvPr id="180" name=""/>
            <p:cNvSpPr/>
            <p:nvPr/>
          </p:nvSpPr>
          <p:spPr>
            <a:xfrm rot="6747000">
              <a:off x="1495800" y="392544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4229400">
              <a:off x="524880" y="267264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 rot="21174000">
              <a:off x="2448000" y="340992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433000">
              <a:off x="-658800" y="264924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614800">
              <a:off x="1908720" y="321084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6841800">
              <a:off x="-622800" y="362232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502400">
              <a:off x="-329400" y="2963520"/>
              <a:ext cx="210024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851280" y="4149720"/>
            <a:ext cx="3311640" cy="1006560"/>
          </a:xfrm>
          <a:prstGeom prst="wedgeEllipseCallout">
            <a:avLst>
              <a:gd name="adj1" fmla="val -5754"/>
              <a:gd name="adj2" fmla="val 79023"/>
            </a:avLst>
          </a:prstGeom>
          <a:gradFill rotWithShape="0">
            <a:gsLst>
              <a:gs pos="0">
                <a:srgbClr val="99cc00"/>
              </a:gs>
              <a:gs pos="100000">
                <a:srgbClr val="cae4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Kristen ITC"/>
              </a:rPr>
              <a:t>WOW, che grande!!! È uno squa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331200" y="14112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474120" y="17715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49576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8864600">
            <a:off x="654768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8864600">
            <a:off x="5637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912600">
            <a:off x="478800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8752680" y="19454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3417200">
            <a:off x="8465760" y="1985760"/>
            <a:ext cx="785880" cy="82368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-8280" y="1888920"/>
            <a:ext cx="4959000" cy="2998080"/>
            <a:chOff x="-8280" y="1888920"/>
            <a:chExt cx="4959000" cy="2998080"/>
          </a:xfrm>
        </p:grpSpPr>
        <p:sp>
          <p:nvSpPr>
            <p:cNvPr id="198" name=""/>
            <p:cNvSpPr/>
            <p:nvPr/>
          </p:nvSpPr>
          <p:spPr>
            <a:xfrm rot="6567000">
              <a:off x="2334240" y="3765960"/>
              <a:ext cx="95796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4049400">
              <a:off x="1299240" y="2534760"/>
              <a:ext cx="209952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 rot="20994000">
              <a:off x="3248280" y="318276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253000">
              <a:off x="109080" y="2606040"/>
              <a:ext cx="859320" cy="78552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7434800">
              <a:off x="2702880" y="303480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6661800">
              <a:off x="195480" y="3580200"/>
              <a:ext cx="73728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322400">
              <a:off x="460800" y="2870280"/>
              <a:ext cx="209988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826920" y="4724280"/>
            <a:ext cx="3311640" cy="1079640"/>
          </a:xfrm>
          <a:prstGeom prst="wedgeEllipseCallout">
            <a:avLst>
              <a:gd name="adj1" fmla="val 65962"/>
              <a:gd name="adj2" fmla="val 46763"/>
            </a:avLst>
          </a:prstGeom>
          <a:gradFill rotWithShape="0">
            <a:gsLst>
              <a:gs pos="0">
                <a:srgbClr val="99cc00"/>
              </a:gs>
              <a:gs pos="100000">
                <a:srgbClr val="cae4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Hey squa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Giochi con 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1700280"/>
            <a:ext cx="3529080" cy="718920"/>
          </a:xfrm>
          <a:prstGeom prst="wedgeRectCallout">
            <a:avLst>
              <a:gd name="adj1" fmla="val -63763"/>
              <a:gd name="adj2" fmla="val 131898"/>
            </a:avLst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Non posso, devo andare al lavo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rot="18864600">
            <a:off x="5826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8864600">
            <a:off x="49172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8912600">
            <a:off x="465624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54520" y="1389240"/>
            <a:ext cx="4996800" cy="2957760"/>
            <a:chOff x="2054520" y="1389240"/>
            <a:chExt cx="4996800" cy="2957760"/>
          </a:xfrm>
        </p:grpSpPr>
        <p:sp>
          <p:nvSpPr>
            <p:cNvPr id="212" name=""/>
            <p:cNvSpPr/>
            <p:nvPr/>
          </p:nvSpPr>
          <p:spPr>
            <a:xfrm rot="6391200">
              <a:off x="4467960" y="324288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3873600">
              <a:off x="3371760" y="203760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 rot="20818200">
              <a:off x="5341320" y="259740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0077200">
              <a:off x="2181240" y="22017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7259600">
              <a:off x="4793040" y="24994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6486000">
              <a:off x="2315160" y="317268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146600">
              <a:off x="2551680" y="2415960"/>
              <a:ext cx="209988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73080" y="4581360"/>
            <a:ext cx="3311640" cy="1079640"/>
          </a:xfrm>
          <a:prstGeom prst="wedgeEllipseCallout">
            <a:avLst>
              <a:gd name="adj1" fmla="val 50481"/>
              <a:gd name="adj2" fmla="val 46175"/>
            </a:avLst>
          </a:prstGeom>
          <a:gradFill rotWithShape="0">
            <a:gsLst>
              <a:gs pos="0">
                <a:srgbClr val="99cc00"/>
              </a:gs>
              <a:gs pos="100000">
                <a:srgbClr val="cae4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Dai…. Solo cinque minuti!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08720" y="1197000"/>
            <a:ext cx="3166920" cy="719280"/>
          </a:xfrm>
          <a:prstGeom prst="wedgeRectCallout">
            <a:avLst>
              <a:gd name="adj1" fmla="val -38069"/>
              <a:gd name="adj2" fmla="val 131898"/>
            </a:avLst>
          </a:prstGeom>
          <a:gradFill rotWithShape="0">
            <a:gsLst>
              <a:gs pos="0">
                <a:srgbClr val="808080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Ti ho già detto che non ho temp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7504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rot="18864600">
            <a:off x="5826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864600">
            <a:off x="49172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912600">
            <a:off x="508788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26160" y="1389240"/>
            <a:ext cx="4996800" cy="2957760"/>
            <a:chOff x="3926160" y="1389240"/>
            <a:chExt cx="4996800" cy="2957760"/>
          </a:xfrm>
        </p:grpSpPr>
        <p:sp>
          <p:nvSpPr>
            <p:cNvPr id="227" name=""/>
            <p:cNvSpPr/>
            <p:nvPr/>
          </p:nvSpPr>
          <p:spPr>
            <a:xfrm rot="6391200">
              <a:off x="6339600" y="324288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3873600">
              <a:off x="5243400" y="203760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 rot="20818200">
              <a:off x="7212960" y="259740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077200">
              <a:off x="4052880" y="22017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7259600">
              <a:off x="6664680" y="24994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6486000">
              <a:off x="4186800" y="317268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146600">
              <a:off x="4423320" y="2415960"/>
              <a:ext cx="209988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77504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18864600">
            <a:off x="5826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8864600">
            <a:off x="49172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8912600">
            <a:off x="551988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15240" y="1389240"/>
            <a:ext cx="4997160" cy="2957760"/>
            <a:chOff x="6015240" y="1389240"/>
            <a:chExt cx="4997160" cy="2957760"/>
          </a:xfrm>
        </p:grpSpPr>
        <p:sp>
          <p:nvSpPr>
            <p:cNvPr id="240" name=""/>
            <p:cNvSpPr/>
            <p:nvPr/>
          </p:nvSpPr>
          <p:spPr>
            <a:xfrm rot="6391200">
              <a:off x="8429040" y="324288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3873600">
              <a:off x="7332480" y="203760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 rot="20818200">
              <a:off x="9302400" y="259740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077200">
              <a:off x="6141960" y="22017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7259600">
              <a:off x="8754120" y="24994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6486000">
              <a:off x="6275880" y="317304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146600">
              <a:off x="6512760" y="2415960"/>
              <a:ext cx="210024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77504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5280" y="3933720"/>
            <a:ext cx="3384360" cy="1511280"/>
          </a:xfrm>
          <a:prstGeom prst="wedgeEllipseCallout">
            <a:avLst>
              <a:gd name="adj1" fmla="val 55157"/>
              <a:gd name="adj2" fmla="val 32250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Uffa…i grandi non hanno mai tempo per giocare con 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rot="18864600">
            <a:off x="58269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8864600">
            <a:off x="49172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8912600">
            <a:off x="595152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75040" y="5170320"/>
            <a:ext cx="172260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3933720"/>
            <a:ext cx="3384360" cy="1511280"/>
          </a:xfrm>
          <a:prstGeom prst="wedgeEllipseCallout">
            <a:avLst>
              <a:gd name="adj1" fmla="val 55157"/>
              <a:gd name="adj2" fmla="val 32250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hissà chi sta arrivando? WOW! Ma quella è una palla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862760" y="3796200"/>
            <a:ext cx="3084840" cy="2479680"/>
            <a:chOff x="7862760" y="3796200"/>
            <a:chExt cx="3084840" cy="2479680"/>
          </a:xfrm>
        </p:grpSpPr>
        <p:sp>
          <p:nvSpPr>
            <p:cNvPr id="256" name=""/>
            <p:cNvSpPr/>
            <p:nvPr/>
          </p:nvSpPr>
          <p:spPr>
            <a:xfrm rot="18841800">
              <a:off x="8964720" y="460512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9896400">
              <a:off x="7956360" y="414108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0800000">
              <a:off x="8389800" y="489420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 rot="19978800">
              <a:off x="9540360" y="407628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4243800">
              <a:off x="8317080" y="551484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2258600">
              <a:off x="9469800" y="547056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812000" y="306864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rot="18864600">
            <a:off x="553788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8864600">
            <a:off x="462816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8912600">
            <a:off x="5878440" y="5300280"/>
            <a:ext cx="63684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8632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4292640"/>
            <a:ext cx="3095640" cy="1152360"/>
          </a:xfrm>
          <a:prstGeom prst="wedgeEllipseCallout">
            <a:avLst>
              <a:gd name="adj1" fmla="val 55638"/>
              <a:gd name="adj2" fmla="val 26722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iao! Che bella palla gialla che ha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142040" y="2932560"/>
            <a:ext cx="3084840" cy="2479680"/>
            <a:chOff x="7142040" y="2932560"/>
            <a:chExt cx="3084840" cy="2479680"/>
          </a:xfrm>
        </p:grpSpPr>
        <p:sp>
          <p:nvSpPr>
            <p:cNvPr id="270" name=""/>
            <p:cNvSpPr/>
            <p:nvPr/>
          </p:nvSpPr>
          <p:spPr>
            <a:xfrm rot="18841800">
              <a:off x="8244000" y="374148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9896400">
              <a:off x="7235640" y="327744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7669080" y="403056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9978800">
              <a:off x="8819640" y="321264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4243800">
              <a:off x="7596360" y="465120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2258600">
              <a:off x="8749080" y="460692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875640" y="191628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rot="18864600">
            <a:off x="474732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864600">
            <a:off x="383760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912600">
            <a:off x="5221440" y="53002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9576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1640" y="5589720"/>
            <a:ext cx="2592360" cy="1152360"/>
          </a:xfrm>
          <a:prstGeom prst="wedgeEllipseCallout">
            <a:avLst>
              <a:gd name="adj1" fmla="val -73268"/>
              <a:gd name="adj2" fmla="val -36365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Io sono Kate! …che fai? Gioch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206760" y="2356560"/>
            <a:ext cx="3084840" cy="2479680"/>
            <a:chOff x="6206760" y="2356560"/>
            <a:chExt cx="3084840" cy="2479680"/>
          </a:xfrm>
        </p:grpSpPr>
        <p:sp>
          <p:nvSpPr>
            <p:cNvPr id="284" name=""/>
            <p:cNvSpPr/>
            <p:nvPr/>
          </p:nvSpPr>
          <p:spPr>
            <a:xfrm rot="18841800">
              <a:off x="7308720" y="316548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9896400">
              <a:off x="6300360" y="270144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00000">
              <a:off x="6733800" y="345456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 rot="19978800">
              <a:off x="7884360" y="263664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243800">
              <a:off x="6661080" y="407520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2258600">
              <a:off x="7813800" y="403092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093080" y="105264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1700280"/>
            <a:ext cx="3602160" cy="1154160"/>
          </a:xfrm>
          <a:prstGeom prst="wedgeRoundRectCallout">
            <a:avLst>
              <a:gd name="adj1" fmla="val 64500"/>
              <a:gd name="adj2" fmla="val 90027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ead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Grazie! Ciao io mi chiamo Leo…tu chi s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rot="18864600">
            <a:off x="402660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864600">
            <a:off x="311688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8912600">
            <a:off x="4284720" y="5084280"/>
            <a:ext cx="636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7504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19280" y="4365720"/>
            <a:ext cx="1800360" cy="1079280"/>
          </a:xfrm>
          <a:prstGeom prst="wedgeEllipseCallout">
            <a:avLst>
              <a:gd name="adj1" fmla="val 59699"/>
              <a:gd name="adj2" fmla="val 25148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Kristen ITC"/>
              </a:rPr>
              <a:t>Yeeee! …Pas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30400" y="1996200"/>
            <a:ext cx="3084840" cy="2479680"/>
            <a:chOff x="5630400" y="1996200"/>
            <a:chExt cx="3084840" cy="2479680"/>
          </a:xfrm>
        </p:grpSpPr>
        <p:sp>
          <p:nvSpPr>
            <p:cNvPr id="299" name=""/>
            <p:cNvSpPr/>
            <p:nvPr/>
          </p:nvSpPr>
          <p:spPr>
            <a:xfrm rot="18841800">
              <a:off x="6732360" y="280512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9896400">
              <a:off x="5724000" y="234108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0800000">
              <a:off x="6157440" y="309420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 rot="19978800">
              <a:off x="7308000" y="227628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4243800">
              <a:off x="6084720" y="371484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2258600">
              <a:off x="7237440" y="367056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667640" y="141300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19640" y="1125360"/>
            <a:ext cx="2087640" cy="793800"/>
          </a:xfrm>
          <a:prstGeom prst="wedgeRoundRectCallout">
            <a:avLst>
              <a:gd name="adj1" fmla="val 26046"/>
              <a:gd name="adj2" fmla="val 135199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ead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Certo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 rot="18864600">
            <a:off x="31773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864600">
            <a:off x="22676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8912600">
            <a:off x="3421080" y="5084280"/>
            <a:ext cx="636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24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630400" y="1996200"/>
            <a:ext cx="3084840" cy="2479680"/>
            <a:chOff x="5630400" y="1996200"/>
            <a:chExt cx="3084840" cy="2479680"/>
          </a:xfrm>
        </p:grpSpPr>
        <p:sp>
          <p:nvSpPr>
            <p:cNvPr id="313" name=""/>
            <p:cNvSpPr/>
            <p:nvPr/>
          </p:nvSpPr>
          <p:spPr>
            <a:xfrm rot="18841800">
              <a:off x="6732360" y="280512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9896400">
              <a:off x="5724000" y="234108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800000">
              <a:off x="6157440" y="309420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19978800">
              <a:off x="7308000" y="227628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243800">
              <a:off x="6084720" y="371484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2258600">
              <a:off x="7237440" y="367056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788000" y="328464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3640" y="549360"/>
            <a:ext cx="2594160" cy="865080"/>
          </a:xfrm>
          <a:prstGeom prst="wedgeRoundRectCallout">
            <a:avLst>
              <a:gd name="adj1" fmla="val 29500"/>
              <a:gd name="adj2" fmla="val 181745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fead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Ecc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224840" y="514656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864600">
            <a:off x="8276400" y="576648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864600">
            <a:off x="7366680" y="576648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8912600">
            <a:off x="6516720" y="558936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8840" y="2986200"/>
            <a:ext cx="3025800" cy="2087280"/>
          </a:xfrm>
          <a:prstGeom prst="cloudCallout">
            <a:avLst>
              <a:gd name="adj1" fmla="val -20777"/>
              <a:gd name="adj2" fmla="val 77986"/>
            </a:avLst>
          </a:prstGeom>
          <a:gradFill rotWithShape="0">
            <a:gsLst>
              <a:gs pos="0">
                <a:srgbClr val="99cc00"/>
              </a:gs>
              <a:gs pos="100000">
                <a:srgbClr val="ddeda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Come è grande il mare!!! Però che noia: non c’è nessuno con cui gioca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rot="18864600">
            <a:off x="31773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8864600">
            <a:off x="22676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24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630400" y="2404080"/>
            <a:ext cx="3084840" cy="2479680"/>
            <a:chOff x="5630400" y="2404080"/>
            <a:chExt cx="3084840" cy="2479680"/>
          </a:xfrm>
        </p:grpSpPr>
        <p:sp>
          <p:nvSpPr>
            <p:cNvPr id="326" name=""/>
            <p:cNvSpPr/>
            <p:nvPr/>
          </p:nvSpPr>
          <p:spPr>
            <a:xfrm rot="18841800">
              <a:off x="6732360" y="321300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9896400">
              <a:off x="5724000" y="274896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0800000">
              <a:off x="6157440" y="350208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 rot="19978800">
              <a:off x="7308000" y="268416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4243800">
              <a:off x="6084720" y="412272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2258600">
              <a:off x="7237440" y="407844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492360" y="465300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9280" y="3933720"/>
            <a:ext cx="1800360" cy="1079640"/>
          </a:xfrm>
          <a:prstGeom prst="wedgeEllipseCallout">
            <a:avLst>
              <a:gd name="adj1" fmla="val 49472"/>
              <a:gd name="adj2" fmla="val 47203"/>
            </a:avLst>
          </a:prstGeom>
          <a:gradFill rotWithShape="0">
            <a:gsLst>
              <a:gs pos="0">
                <a:srgbClr val="99cc00"/>
              </a:gs>
              <a:gs pos="100000">
                <a:srgbClr val="e0ef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Pres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12600">
            <a:off x="3421080" y="5084280"/>
            <a:ext cx="636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rot="18864600">
            <a:off x="317736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864600">
            <a:off x="226764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24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86040" y="3051720"/>
            <a:ext cx="3084840" cy="2479680"/>
            <a:chOff x="5486040" y="3051720"/>
            <a:chExt cx="3084840" cy="2479680"/>
          </a:xfrm>
        </p:grpSpPr>
        <p:sp>
          <p:nvSpPr>
            <p:cNvPr id="340" name=""/>
            <p:cNvSpPr/>
            <p:nvPr/>
          </p:nvSpPr>
          <p:spPr>
            <a:xfrm rot="18841800">
              <a:off x="6588000" y="3860640"/>
              <a:ext cx="636480" cy="63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9896400">
              <a:off x="5579640" y="3396600"/>
              <a:ext cx="785880" cy="824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6013080" y="4149720"/>
              <a:ext cx="1722600" cy="860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 rot="19978800">
              <a:off x="7163640" y="3331800"/>
              <a:ext cx="1360800" cy="528840"/>
            </a:xfrm>
            <a:prstGeom prst="parallelogram">
              <a:avLst>
                <a:gd name="adj" fmla="val 6432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4243800">
              <a:off x="5940360" y="4770360"/>
              <a:ext cx="704520" cy="64440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2258600">
              <a:off x="7093080" y="4726080"/>
              <a:ext cx="604800" cy="60336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492360" y="4653000"/>
            <a:ext cx="1081080" cy="10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8912600">
            <a:off x="3421080" y="5084280"/>
            <a:ext cx="636480" cy="63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724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Kristen ITC"/>
              </a:rPr>
              <a:t>Chi trova un amico trova…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11200" y="307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Mor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62200" y="3500280"/>
            <a:ext cx="70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ffff"/>
                </a:solidFill>
                <a:latin typeface="Kristen ITC"/>
              </a:rPr>
              <a:t>…</a:t>
            </a:r>
            <a:r>
              <a:rPr b="0" lang="it-IT" sz="6600" spc="-1" strike="noStrike">
                <a:solidFill>
                  <a:srgbClr val="ffffff"/>
                </a:solidFill>
                <a:latin typeface="Kristen ITC"/>
              </a:rPr>
              <a:t>un tesoro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8864600">
            <a:off x="785556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864600">
            <a:off x="694620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912600">
            <a:off x="6095880" y="5600520"/>
            <a:ext cx="63684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1114920" y="25646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rot="5400000">
            <a:off x="-177480" y="2561400"/>
            <a:ext cx="1722240" cy="86652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3609200">
            <a:off x="-541800" y="174528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3576800">
            <a:off x="-569160" y="361656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3573360"/>
            <a:ext cx="3024000" cy="1440000"/>
          </a:xfrm>
          <a:prstGeom prst="cloudCallout">
            <a:avLst>
              <a:gd name="adj1" fmla="val -24856"/>
              <a:gd name="adj2" fmla="val 80981"/>
            </a:avLst>
          </a:prstGeom>
          <a:gradFill rotWithShape="0">
            <a:gsLst>
              <a:gs pos="0">
                <a:srgbClr val="99cc00"/>
              </a:gs>
              <a:gs pos="100000">
                <a:srgbClr val="e4f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Oh guarda: arriva qualcun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…</a:t>
            </a: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chi sarà mai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88000" y="515772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864600">
            <a:off x="763992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8864600">
            <a:off x="6730200" y="577764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912600">
            <a:off x="5880240" y="560052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4076640"/>
            <a:ext cx="2880000" cy="936720"/>
          </a:xfrm>
          <a:prstGeom prst="wedgeRoundRectCallout">
            <a:avLst>
              <a:gd name="adj1" fmla="val -21500"/>
              <a:gd name="adj2" fmla="val 118476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cde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Ciao pesciolino! Io mi chiamo Kate! Tu chi se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3440" y="1643760"/>
            <a:ext cx="3298680" cy="2751840"/>
            <a:chOff x="163440" y="1643760"/>
            <a:chExt cx="3298680" cy="2751840"/>
          </a:xfrm>
        </p:grpSpPr>
        <p:sp>
          <p:nvSpPr>
            <p:cNvPr id="69" name=""/>
            <p:cNvSpPr/>
            <p:nvPr/>
          </p:nvSpPr>
          <p:spPr>
            <a:xfrm rot="16200000">
              <a:off x="921240" y="2580840"/>
              <a:ext cx="1783800" cy="891000"/>
            </a:xfrm>
            <a:prstGeom prst="triangle">
              <a:avLst>
                <a:gd name="adj" fmla="val 50000"/>
              </a:avLst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880280" y="2577960"/>
              <a:ext cx="1783800" cy="896760"/>
            </a:xfrm>
            <a:prstGeom prst="triangle">
              <a:avLst>
                <a:gd name="adj" fmla="val 48662"/>
              </a:avLst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3609200">
              <a:off x="1475640" y="1773360"/>
              <a:ext cx="626760" cy="62568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3576800">
              <a:off x="1476360" y="3641040"/>
              <a:ext cx="626760" cy="62424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3417200">
              <a:off x="345600" y="2624400"/>
              <a:ext cx="813960" cy="85392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17960" y="2170080"/>
              <a:ext cx="223560" cy="22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12000" y="2559960"/>
              <a:ext cx="15012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17960" y="2689560"/>
              <a:ext cx="15012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359400" y="508644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864600">
            <a:off x="7411320" y="570636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864600">
            <a:off x="6501600" y="5706360"/>
            <a:ext cx="604800" cy="60336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8912600">
            <a:off x="565164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005360"/>
            <a:ext cx="2879640" cy="936360"/>
          </a:xfrm>
          <a:prstGeom prst="wedgeRoundRectCallout">
            <a:avLst>
              <a:gd name="adj1" fmla="val -21500"/>
              <a:gd name="adj2" fmla="val 118476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c3e06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Hey!!!! Mi senti? Sono qui! Perché non mi rispon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86400" y="1643760"/>
            <a:ext cx="3298320" cy="2751840"/>
            <a:chOff x="986400" y="1643760"/>
            <a:chExt cx="3298320" cy="2751840"/>
          </a:xfrm>
        </p:grpSpPr>
        <p:sp>
          <p:nvSpPr>
            <p:cNvPr id="84" name=""/>
            <p:cNvSpPr/>
            <p:nvPr/>
          </p:nvSpPr>
          <p:spPr>
            <a:xfrm rot="16200000">
              <a:off x="1743480" y="2580840"/>
              <a:ext cx="1783800" cy="890640"/>
            </a:xfrm>
            <a:prstGeom prst="triangle">
              <a:avLst>
                <a:gd name="adj" fmla="val 50000"/>
              </a:avLst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5400000">
              <a:off x="2702880" y="2577960"/>
              <a:ext cx="1783800" cy="896760"/>
            </a:xfrm>
            <a:prstGeom prst="triangle">
              <a:avLst>
                <a:gd name="adj" fmla="val 48662"/>
              </a:avLst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3609200">
              <a:off x="2297880" y="1773360"/>
              <a:ext cx="626760" cy="62568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3576800">
              <a:off x="2298600" y="3641040"/>
              <a:ext cx="626760" cy="62424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3417200">
              <a:off x="1168560" y="2624400"/>
              <a:ext cx="813600" cy="853920"/>
            </a:xfrm>
            <a:prstGeom prst="rtTriangle">
              <a:avLst/>
            </a:prstGeom>
            <a:solidFill>
              <a:srgbClr val="ffae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40200" y="2170080"/>
              <a:ext cx="223560" cy="223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34600" y="2559960"/>
              <a:ext cx="15012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40200" y="2689560"/>
              <a:ext cx="150120" cy="150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50990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864600">
            <a:off x="7207920" y="570636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8864600">
            <a:off x="6298200" y="570636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912600">
            <a:off x="5448240" y="545760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701080" y="25646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rot="5400000">
            <a:off x="3637800" y="2561400"/>
            <a:ext cx="1722240" cy="86688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3609200">
            <a:off x="3247200" y="174528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3576800">
            <a:off x="3246840" y="361656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3417200">
            <a:off x="2123640" y="2604240"/>
            <a:ext cx="785880" cy="82404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292640"/>
            <a:ext cx="2952720" cy="649080"/>
          </a:xfrm>
          <a:prstGeom prst="wedgeRoundRectCallout">
            <a:avLst>
              <a:gd name="adj1" fmla="val -22203"/>
              <a:gd name="adj2" fmla="val 148777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d4e99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Kristen ITC"/>
              </a:rPr>
              <a:t>Pesciolino?!?!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133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2637000"/>
            <a:ext cx="730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421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5636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864600">
            <a:off x="720792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864600">
            <a:off x="629820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912600">
            <a:off x="544824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564720" y="25646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rot="5400000">
            <a:off x="4501440" y="2561400"/>
            <a:ext cx="1722240" cy="86688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3609200">
            <a:off x="4110840" y="174528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576800">
            <a:off x="4112280" y="3616920"/>
            <a:ext cx="604800" cy="60300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417200">
            <a:off x="2987280" y="2604240"/>
            <a:ext cx="785880" cy="82404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63920"/>
            <a:ext cx="2952720" cy="649440"/>
          </a:xfrm>
          <a:prstGeom prst="wedgeRoundRectCallout">
            <a:avLst>
              <a:gd name="adj1" fmla="val -22203"/>
              <a:gd name="adj2" fmla="val 148777"/>
              <a:gd name="adj3" fmla="val 16667"/>
            </a:avLst>
          </a:prstGeom>
          <a:gradFill rotWithShape="0">
            <a:gsLst>
              <a:gs pos="0">
                <a:srgbClr val="99cc00"/>
              </a:gs>
              <a:gs pos="100000">
                <a:srgbClr val="cde58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Kristen ITC"/>
              </a:rPr>
              <a:t>Ma dai aspetta, gioca un po’ con 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1280" y="2637000"/>
            <a:ext cx="7272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2560" y="2421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564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rot="8107200">
            <a:off x="4930920" y="3429000"/>
            <a:ext cx="1087200" cy="339840"/>
          </a:xfrm>
          <a:prstGeom prst="parallelogram">
            <a:avLst>
              <a:gd name="adj" fmla="val 79979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1628640"/>
            <a:ext cx="3384720" cy="1079640"/>
          </a:xfrm>
          <a:prstGeom prst="wedgeEllipseCallout">
            <a:avLst>
              <a:gd name="adj1" fmla="val -26736"/>
              <a:gd name="adj2" fmla="val 88972"/>
            </a:avLst>
          </a:prstGeom>
          <a:gradFill rotWithShape="0">
            <a:gsLst>
              <a:gs pos="0">
                <a:srgbClr val="ffae37"/>
              </a:gs>
              <a:gs pos="100000">
                <a:srgbClr val="fed7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Ho fretta, devo and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5636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864600">
            <a:off x="720792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864600">
            <a:off x="629820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8912600">
            <a:off x="544824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720680" y="2564640"/>
            <a:ext cx="172224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rot="5400000">
            <a:off x="5657040" y="2561400"/>
            <a:ext cx="1722240" cy="86688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3609200">
            <a:off x="5266440" y="174528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3576800">
            <a:off x="5191560" y="357372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3417200">
            <a:off x="4142880" y="2604240"/>
            <a:ext cx="785880" cy="82404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7240" y="2637000"/>
            <a:ext cx="730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42080" y="2349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5160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58080" y="2276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3127680" y="2196360"/>
            <a:ext cx="4872960" cy="3074400"/>
            <a:chOff x="-3127680" y="2196360"/>
            <a:chExt cx="4872960" cy="3074400"/>
          </a:xfrm>
        </p:grpSpPr>
        <p:sp>
          <p:nvSpPr>
            <p:cNvPr id="139" name=""/>
            <p:cNvSpPr/>
            <p:nvPr/>
          </p:nvSpPr>
          <p:spPr>
            <a:xfrm rot="7198800">
              <a:off x="-946800" y="410256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681200">
              <a:off x="-1753200" y="280728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 rot="25200">
              <a:off x="84240" y="376416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884800">
              <a:off x="-2901960" y="25491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8066600">
              <a:off x="-428040" y="34372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7293600">
              <a:off x="-2989800" y="351108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54200">
              <a:off x="-2638800" y="2984760"/>
              <a:ext cx="210024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1539720"/>
            <a:ext cx="9180360" cy="9072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56360" y="5170320"/>
            <a:ext cx="1722240" cy="86076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8864600">
            <a:off x="720792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8864600">
            <a:off x="6298200" y="5777640"/>
            <a:ext cx="604800" cy="603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8912600">
            <a:off x="5448240" y="5528880"/>
            <a:ext cx="636480" cy="636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6293520" y="2016360"/>
            <a:ext cx="1722600" cy="860400"/>
          </a:xfrm>
          <a:prstGeom prst="triangle">
            <a:avLst>
              <a:gd name="adj" fmla="val 50000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rot="5400000">
            <a:off x="7229520" y="2013480"/>
            <a:ext cx="1722600" cy="866520"/>
          </a:xfrm>
          <a:prstGeom prst="triangle">
            <a:avLst>
              <a:gd name="adj" fmla="val 48662"/>
            </a:avLst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3609200">
            <a:off x="6839640" y="1197720"/>
            <a:ext cx="604800" cy="60336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576800">
            <a:off x="6847560" y="3069360"/>
            <a:ext cx="604800" cy="60300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3417200">
            <a:off x="5716080" y="2056680"/>
            <a:ext cx="785880" cy="824040"/>
          </a:xfrm>
          <a:prstGeom prst="rtTriangle">
            <a:avLst/>
          </a:prstGeom>
          <a:solidFill>
            <a:srgbClr val="ffa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31280" y="20890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75640" y="1944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531280" y="12254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58200" y="15858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1774440" y="2177640"/>
            <a:ext cx="4885920" cy="3050280"/>
            <a:chOff x="-1774440" y="2177640"/>
            <a:chExt cx="4885920" cy="3050280"/>
          </a:xfrm>
        </p:grpSpPr>
        <p:sp>
          <p:nvSpPr>
            <p:cNvPr id="161" name=""/>
            <p:cNvSpPr/>
            <p:nvPr/>
          </p:nvSpPr>
          <p:spPr>
            <a:xfrm rot="6898200">
              <a:off x="448200" y="4079520"/>
              <a:ext cx="957600" cy="100440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4380600">
              <a:off x="-468000" y="2810160"/>
              <a:ext cx="209916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 rot="21325200">
              <a:off x="1429560" y="3622320"/>
              <a:ext cx="1658520" cy="644400"/>
            </a:xfrm>
            <a:prstGeom prst="parallelogram">
              <a:avLst>
                <a:gd name="adj" fmla="val 6434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584200">
              <a:off x="-1643760" y="2707560"/>
              <a:ext cx="859320" cy="78516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7766000">
              <a:off x="897480" y="3379680"/>
              <a:ext cx="775800" cy="775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6993000">
              <a:off x="-1648800" y="3678840"/>
              <a:ext cx="736920" cy="735480"/>
            </a:xfrm>
            <a:prstGeom prst="rtTriangl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53600">
              <a:off x="-1334160" y="3063600"/>
              <a:ext cx="2100240" cy="104868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059280" y="3573360"/>
            <a:ext cx="3311280" cy="1798920"/>
          </a:xfrm>
          <a:prstGeom prst="wedgeEllipseCallout">
            <a:avLst>
              <a:gd name="adj1" fmla="val 26893"/>
              <a:gd name="adj2" fmla="val 54236"/>
            </a:avLst>
          </a:prstGeom>
          <a:gradFill rotWithShape="0">
            <a:gsLst>
              <a:gs pos="0">
                <a:srgbClr val="99cc00"/>
              </a:gs>
              <a:gs pos="100000">
                <a:srgbClr val="cae47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Kristen ITC"/>
              </a:rPr>
              <a:t>Per fortuna arriva un nuovo amico… Chiederò a lui di giocare con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3:28:30Z</dcterms:created>
  <dc:creator>admin_ins</dc:creator>
  <dc:description/>
  <dc:language>en-US</dc:language>
  <cp:lastModifiedBy>pinco pallo</cp:lastModifiedBy>
  <dcterms:modified xsi:type="dcterms:W3CDTF">2010-03-26T10:04:58Z</dcterms:modified>
  <cp:revision>8</cp:revision>
  <dc:subject/>
  <dc:title>Diapositiva 1</dc:title>
</cp:coreProperties>
</file>