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5556-8E13-4819-A716-17504470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927E-F334-4C2D-AAC4-5116AECE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8B51-BE13-46C7-B9B3-DF30544C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B8B2-32BF-467A-9518-8E7B24A8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BD9D-4BF2-4F5A-B3D4-36456324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02D4-A104-40BD-B4D6-D3B4A860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7911-8397-4AA2-9CB5-B6C83DAB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5A8-AA97-4416-9A7C-E54890EE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F43A-13C3-4FCC-83CC-F8375A03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4CCD-AD11-425C-96B5-218F9AF7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546-CA38-497D-8C13-A99F2BFC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9B22-9811-484C-B491-0684FD06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FFF8-9A60-448D-A773-0097C8EC0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ffff"/>
                </a:solidFill>
                <a:latin typeface="Kristen ITC"/>
              </a:rPr>
              <a:t>Kate la tartarug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10920" y="3621240"/>
            <a:ext cx="7705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Kristen ITC"/>
              </a:rPr>
              <a:t>Storia di una tartarughina che non aveva nessuno con cui gio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12000" y="5170320"/>
            <a:ext cx="1722240" cy="8607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8864600">
            <a:off x="706356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864600">
            <a:off x="615384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8912600">
            <a:off x="5303880" y="552888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7525800" y="1945440"/>
            <a:ext cx="1722240" cy="860400"/>
          </a:xfrm>
          <a:prstGeom prst="triangle">
            <a:avLst>
              <a:gd name="adj" fmla="val 50000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rot="5400000">
            <a:off x="8462160" y="1942200"/>
            <a:ext cx="1722240" cy="866880"/>
          </a:xfrm>
          <a:prstGeom prst="triangle">
            <a:avLst>
              <a:gd name="adj" fmla="val 48662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3609200">
            <a:off x="8071200" y="1125720"/>
            <a:ext cx="605160" cy="60336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3576800">
            <a:off x="8079120" y="2997720"/>
            <a:ext cx="604800" cy="60336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3417200">
            <a:off x="6948000" y="1985760"/>
            <a:ext cx="785880" cy="82368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-765360" y="2032560"/>
            <a:ext cx="4905720" cy="3029400"/>
            <a:chOff x="-765360" y="2032560"/>
            <a:chExt cx="4905720" cy="3029400"/>
          </a:xfrm>
        </p:grpSpPr>
        <p:sp>
          <p:nvSpPr>
            <p:cNvPr id="180" name=""/>
            <p:cNvSpPr/>
            <p:nvPr/>
          </p:nvSpPr>
          <p:spPr>
            <a:xfrm rot="6747000">
              <a:off x="1495800" y="3925440"/>
              <a:ext cx="957600" cy="100440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4229400">
              <a:off x="524880" y="2672640"/>
              <a:ext cx="209916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 rot="21174000">
              <a:off x="2448000" y="3409920"/>
              <a:ext cx="1658520" cy="644400"/>
            </a:xfrm>
            <a:prstGeom prst="parallelogram">
              <a:avLst>
                <a:gd name="adj" fmla="val 64344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20433000">
              <a:off x="-658800" y="2649240"/>
              <a:ext cx="859320" cy="78516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7614800">
              <a:off x="1908720" y="3210840"/>
              <a:ext cx="775800" cy="775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6841800">
              <a:off x="-622800" y="3622320"/>
              <a:ext cx="736920" cy="73548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502400">
              <a:off x="-329400" y="2963520"/>
              <a:ext cx="210024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851280" y="4149720"/>
            <a:ext cx="3311640" cy="1006560"/>
          </a:xfrm>
          <a:prstGeom prst="wedgeEllipseCallout">
            <a:avLst>
              <a:gd name="adj1" fmla="val -5754"/>
              <a:gd name="adj2" fmla="val 79023"/>
            </a:avLst>
          </a:prstGeom>
          <a:gradFill rotWithShape="0">
            <a:gsLst>
              <a:gs pos="0">
                <a:srgbClr val="99cc00"/>
              </a:gs>
              <a:gs pos="100000">
                <a:srgbClr val="cae47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Kristen ITC"/>
              </a:rPr>
              <a:t>WOW, che grande!!! È uno squal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331200" y="14112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474120" y="177156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495760" y="5170320"/>
            <a:ext cx="1722600" cy="8607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8864600">
            <a:off x="654768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8864600">
            <a:off x="563796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8912600">
            <a:off x="4788000" y="552888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8752680" y="1945440"/>
            <a:ext cx="1722240" cy="860400"/>
          </a:xfrm>
          <a:prstGeom prst="triangle">
            <a:avLst>
              <a:gd name="adj" fmla="val 50000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3417200">
            <a:off x="8465760" y="1985760"/>
            <a:ext cx="785880" cy="82368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-8280" y="1888920"/>
            <a:ext cx="4959000" cy="2998080"/>
            <a:chOff x="-8280" y="1888920"/>
            <a:chExt cx="4959000" cy="2998080"/>
          </a:xfrm>
        </p:grpSpPr>
        <p:sp>
          <p:nvSpPr>
            <p:cNvPr id="198" name=""/>
            <p:cNvSpPr/>
            <p:nvPr/>
          </p:nvSpPr>
          <p:spPr>
            <a:xfrm rot="6567000">
              <a:off x="2334240" y="3765960"/>
              <a:ext cx="957960" cy="100440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4049400">
              <a:off x="1299240" y="2534760"/>
              <a:ext cx="209952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 rot="20994000">
              <a:off x="3248280" y="3182760"/>
              <a:ext cx="1658520" cy="644400"/>
            </a:xfrm>
            <a:prstGeom prst="parallelogram">
              <a:avLst>
                <a:gd name="adj" fmla="val 64344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20253000">
              <a:off x="109080" y="2606040"/>
              <a:ext cx="859320" cy="78552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7434800">
              <a:off x="2702880" y="3034800"/>
              <a:ext cx="775800" cy="775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6661800">
              <a:off x="195480" y="3580200"/>
              <a:ext cx="737280" cy="73548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322400">
              <a:off x="460800" y="2870280"/>
              <a:ext cx="209988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826920" y="4724280"/>
            <a:ext cx="3311640" cy="1079640"/>
          </a:xfrm>
          <a:prstGeom prst="wedgeEllipseCallout">
            <a:avLst>
              <a:gd name="adj1" fmla="val 65962"/>
              <a:gd name="adj2" fmla="val 46763"/>
            </a:avLst>
          </a:prstGeom>
          <a:gradFill rotWithShape="0">
            <a:gsLst>
              <a:gs pos="0">
                <a:srgbClr val="99cc00"/>
              </a:gs>
              <a:gs pos="100000">
                <a:srgbClr val="cae47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Kristen ITC"/>
              </a:rPr>
              <a:t>Hey squal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Kristen ITC"/>
              </a:rPr>
              <a:t>Giochi con 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43280" y="1700280"/>
            <a:ext cx="3529080" cy="718920"/>
          </a:xfrm>
          <a:prstGeom prst="wedgeRectCallout">
            <a:avLst>
              <a:gd name="adj1" fmla="val -63763"/>
              <a:gd name="adj2" fmla="val 131898"/>
            </a:avLst>
          </a:prstGeom>
          <a:gradFill rotWithShape="0">
            <a:gsLst>
              <a:gs pos="0">
                <a:srgbClr val="808080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Non posso, devo andare al lavor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 rot="18864600">
            <a:off x="582696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8864600">
            <a:off x="491724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8912600">
            <a:off x="4656240" y="530028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054520" y="1389240"/>
            <a:ext cx="4996800" cy="2957760"/>
            <a:chOff x="2054520" y="1389240"/>
            <a:chExt cx="4996800" cy="2957760"/>
          </a:xfrm>
        </p:grpSpPr>
        <p:sp>
          <p:nvSpPr>
            <p:cNvPr id="212" name=""/>
            <p:cNvSpPr/>
            <p:nvPr/>
          </p:nvSpPr>
          <p:spPr>
            <a:xfrm rot="6391200">
              <a:off x="4467960" y="3242880"/>
              <a:ext cx="957600" cy="100440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3873600">
              <a:off x="3371760" y="2037600"/>
              <a:ext cx="209916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 rot="20818200">
              <a:off x="5341320" y="2597400"/>
              <a:ext cx="1658520" cy="644400"/>
            </a:xfrm>
            <a:prstGeom prst="parallelogram">
              <a:avLst>
                <a:gd name="adj" fmla="val 64344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20077200">
              <a:off x="2181240" y="2201760"/>
              <a:ext cx="859320" cy="78516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7259600">
              <a:off x="4793040" y="2499480"/>
              <a:ext cx="775800" cy="775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6486000">
              <a:off x="2315160" y="3172680"/>
              <a:ext cx="736920" cy="73548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146600">
              <a:off x="2551680" y="2415960"/>
              <a:ext cx="209988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973080" y="4581360"/>
            <a:ext cx="3311640" cy="1079640"/>
          </a:xfrm>
          <a:prstGeom prst="wedgeEllipseCallout">
            <a:avLst>
              <a:gd name="adj1" fmla="val 50481"/>
              <a:gd name="adj2" fmla="val 46175"/>
            </a:avLst>
          </a:prstGeom>
          <a:gradFill rotWithShape="0">
            <a:gsLst>
              <a:gs pos="0">
                <a:srgbClr val="99cc00"/>
              </a:gs>
              <a:gs pos="100000">
                <a:srgbClr val="cae47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Kristen ITC"/>
              </a:rPr>
              <a:t>Dai…. Solo cinque minuti!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08720" y="1197000"/>
            <a:ext cx="3166920" cy="719280"/>
          </a:xfrm>
          <a:prstGeom prst="wedgeRectCallout">
            <a:avLst>
              <a:gd name="adj1" fmla="val -38069"/>
              <a:gd name="adj2" fmla="val 131898"/>
            </a:avLst>
          </a:prstGeom>
          <a:gradFill rotWithShape="0">
            <a:gsLst>
              <a:gs pos="0">
                <a:srgbClr val="808080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Ti ho già detto che non ho temp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75040" y="5170320"/>
            <a:ext cx="1722600" cy="8607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rot="18864600">
            <a:off x="582696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8864600">
            <a:off x="491724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8912600">
            <a:off x="5087880" y="530028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926160" y="1389240"/>
            <a:ext cx="4996800" cy="2957760"/>
            <a:chOff x="3926160" y="1389240"/>
            <a:chExt cx="4996800" cy="2957760"/>
          </a:xfrm>
        </p:grpSpPr>
        <p:sp>
          <p:nvSpPr>
            <p:cNvPr id="227" name=""/>
            <p:cNvSpPr/>
            <p:nvPr/>
          </p:nvSpPr>
          <p:spPr>
            <a:xfrm rot="6391200">
              <a:off x="6339600" y="3242880"/>
              <a:ext cx="957600" cy="100440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3873600">
              <a:off x="5243400" y="2037600"/>
              <a:ext cx="209916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 rot="20818200">
              <a:off x="7212960" y="2597400"/>
              <a:ext cx="1658520" cy="644400"/>
            </a:xfrm>
            <a:prstGeom prst="parallelogram">
              <a:avLst>
                <a:gd name="adj" fmla="val 64344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20077200">
              <a:off x="4052880" y="2201760"/>
              <a:ext cx="859320" cy="78516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7259600">
              <a:off x="6664680" y="2499480"/>
              <a:ext cx="775800" cy="775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6486000">
              <a:off x="4186800" y="3172680"/>
              <a:ext cx="736920" cy="73548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146600">
              <a:off x="4423320" y="2415960"/>
              <a:ext cx="209988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775040" y="5170320"/>
            <a:ext cx="1722600" cy="8607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rot="18864600">
            <a:off x="582696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8864600">
            <a:off x="491724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8912600">
            <a:off x="5519880" y="530028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015240" y="1389240"/>
            <a:ext cx="4997160" cy="2957760"/>
            <a:chOff x="6015240" y="1389240"/>
            <a:chExt cx="4997160" cy="2957760"/>
          </a:xfrm>
        </p:grpSpPr>
        <p:sp>
          <p:nvSpPr>
            <p:cNvPr id="240" name=""/>
            <p:cNvSpPr/>
            <p:nvPr/>
          </p:nvSpPr>
          <p:spPr>
            <a:xfrm rot="6391200">
              <a:off x="8429040" y="3242880"/>
              <a:ext cx="957600" cy="100440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3873600">
              <a:off x="7332480" y="2037600"/>
              <a:ext cx="209916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 rot="20818200">
              <a:off x="9302400" y="2597400"/>
              <a:ext cx="1658520" cy="644400"/>
            </a:xfrm>
            <a:prstGeom prst="parallelogram">
              <a:avLst>
                <a:gd name="adj" fmla="val 64344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20077200">
              <a:off x="6141960" y="2201760"/>
              <a:ext cx="859320" cy="78516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7259600">
              <a:off x="8754120" y="2499480"/>
              <a:ext cx="775800" cy="775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6486000">
              <a:off x="6275880" y="3173040"/>
              <a:ext cx="736920" cy="73548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146600">
              <a:off x="6512760" y="2415960"/>
              <a:ext cx="210024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4775040" y="5170320"/>
            <a:ext cx="1722600" cy="8607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35280" y="3933720"/>
            <a:ext cx="3384360" cy="1511280"/>
          </a:xfrm>
          <a:prstGeom prst="wedgeEllipseCallout">
            <a:avLst>
              <a:gd name="adj1" fmla="val 55157"/>
              <a:gd name="adj2" fmla="val 32250"/>
            </a:avLst>
          </a:prstGeom>
          <a:gradFill rotWithShape="0">
            <a:gsLst>
              <a:gs pos="0">
                <a:srgbClr val="99cc00"/>
              </a:gs>
              <a:gs pos="100000">
                <a:srgbClr val="e0ef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Uffa…i grandi non hanno mai tempo per giocare con m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 rot="18864600">
            <a:off x="582696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8864600">
            <a:off x="491724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8912600">
            <a:off x="5951520" y="530028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75040" y="5170320"/>
            <a:ext cx="1722600" cy="8607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5280" y="3933720"/>
            <a:ext cx="3384360" cy="1511280"/>
          </a:xfrm>
          <a:prstGeom prst="wedgeEllipseCallout">
            <a:avLst>
              <a:gd name="adj1" fmla="val 55157"/>
              <a:gd name="adj2" fmla="val 32250"/>
            </a:avLst>
          </a:prstGeom>
          <a:gradFill rotWithShape="0">
            <a:gsLst>
              <a:gs pos="0">
                <a:srgbClr val="99cc00"/>
              </a:gs>
              <a:gs pos="100000">
                <a:srgbClr val="e0ef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Chissà chi sta arrivando? WOW! Ma quella è una palla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7862760" y="3796200"/>
            <a:ext cx="3084840" cy="2479680"/>
            <a:chOff x="7862760" y="3796200"/>
            <a:chExt cx="3084840" cy="2479680"/>
          </a:xfrm>
        </p:grpSpPr>
        <p:sp>
          <p:nvSpPr>
            <p:cNvPr id="256" name=""/>
            <p:cNvSpPr/>
            <p:nvPr/>
          </p:nvSpPr>
          <p:spPr>
            <a:xfrm rot="18841800">
              <a:off x="8964720" y="4605120"/>
              <a:ext cx="636480" cy="63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9896400">
              <a:off x="7956360" y="4141080"/>
              <a:ext cx="785880" cy="8240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0800000">
              <a:off x="8389800" y="4894200"/>
              <a:ext cx="1722600" cy="8604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 rot="19978800">
              <a:off x="9540360" y="4076280"/>
              <a:ext cx="1360800" cy="528840"/>
            </a:xfrm>
            <a:prstGeom prst="parallelogram">
              <a:avLst>
                <a:gd name="adj" fmla="val 6432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4243800">
              <a:off x="8317080" y="5514840"/>
              <a:ext cx="704520" cy="6444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2258600">
              <a:off x="9469800" y="5470560"/>
              <a:ext cx="604800" cy="60336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812000" y="3068640"/>
            <a:ext cx="108108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 rot="18864600">
            <a:off x="5537880" y="577764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8864600">
            <a:off x="4628160" y="577764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18912600">
            <a:off x="5878440" y="5300280"/>
            <a:ext cx="63684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86320" y="5170320"/>
            <a:ext cx="1722240" cy="8607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35280" y="4292640"/>
            <a:ext cx="3095640" cy="1152360"/>
          </a:xfrm>
          <a:prstGeom prst="wedgeEllipseCallout">
            <a:avLst>
              <a:gd name="adj1" fmla="val 55638"/>
              <a:gd name="adj2" fmla="val 26722"/>
            </a:avLst>
          </a:prstGeom>
          <a:gradFill rotWithShape="0">
            <a:gsLst>
              <a:gs pos="0">
                <a:srgbClr val="99cc00"/>
              </a:gs>
              <a:gs pos="100000">
                <a:srgbClr val="e0ef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Ciao! Che bella palla gialla che ha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142040" y="2932560"/>
            <a:ext cx="3084840" cy="2479680"/>
            <a:chOff x="7142040" y="2932560"/>
            <a:chExt cx="3084840" cy="2479680"/>
          </a:xfrm>
        </p:grpSpPr>
        <p:sp>
          <p:nvSpPr>
            <p:cNvPr id="270" name=""/>
            <p:cNvSpPr/>
            <p:nvPr/>
          </p:nvSpPr>
          <p:spPr>
            <a:xfrm rot="18841800">
              <a:off x="8244000" y="3741480"/>
              <a:ext cx="636480" cy="63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9896400">
              <a:off x="7235640" y="3277440"/>
              <a:ext cx="785880" cy="8240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0800000">
              <a:off x="7669080" y="4030560"/>
              <a:ext cx="1722600" cy="8604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9978800">
              <a:off x="8819640" y="3212640"/>
              <a:ext cx="1360800" cy="528840"/>
            </a:xfrm>
            <a:prstGeom prst="parallelogram">
              <a:avLst>
                <a:gd name="adj" fmla="val 6432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4243800">
              <a:off x="7596360" y="4651200"/>
              <a:ext cx="704520" cy="6444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2258600">
              <a:off x="8749080" y="4606920"/>
              <a:ext cx="604800" cy="60336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6875640" y="1916280"/>
            <a:ext cx="108108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 rot="18864600">
            <a:off x="474732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8864600">
            <a:off x="3837600" y="577764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912600">
            <a:off x="5221440" y="530028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95760" y="5170320"/>
            <a:ext cx="1722240" cy="8607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51640" y="5589720"/>
            <a:ext cx="2592360" cy="1152360"/>
          </a:xfrm>
          <a:prstGeom prst="wedgeEllipseCallout">
            <a:avLst>
              <a:gd name="adj1" fmla="val -73268"/>
              <a:gd name="adj2" fmla="val -36365"/>
            </a:avLst>
          </a:prstGeom>
          <a:gradFill rotWithShape="0">
            <a:gsLst>
              <a:gs pos="0">
                <a:srgbClr val="99cc00"/>
              </a:gs>
              <a:gs pos="100000">
                <a:srgbClr val="e0ef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Io sono Kate! …che fai? Giochia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206760" y="2356560"/>
            <a:ext cx="3084840" cy="2479680"/>
            <a:chOff x="6206760" y="2356560"/>
            <a:chExt cx="3084840" cy="2479680"/>
          </a:xfrm>
        </p:grpSpPr>
        <p:sp>
          <p:nvSpPr>
            <p:cNvPr id="284" name=""/>
            <p:cNvSpPr/>
            <p:nvPr/>
          </p:nvSpPr>
          <p:spPr>
            <a:xfrm rot="18841800">
              <a:off x="7308720" y="3165480"/>
              <a:ext cx="636480" cy="63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9896400">
              <a:off x="6300360" y="2701440"/>
              <a:ext cx="785880" cy="8240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0800000">
              <a:off x="6733800" y="3454560"/>
              <a:ext cx="1722600" cy="8604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 rot="19978800">
              <a:off x="7884360" y="2636640"/>
              <a:ext cx="1360800" cy="528840"/>
            </a:xfrm>
            <a:prstGeom prst="parallelogram">
              <a:avLst>
                <a:gd name="adj" fmla="val 6432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4243800">
              <a:off x="6661080" y="4075200"/>
              <a:ext cx="704520" cy="6444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2258600">
              <a:off x="7813800" y="4030920"/>
              <a:ext cx="604800" cy="60336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7093080" y="1052640"/>
            <a:ext cx="108108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27280" y="1700280"/>
            <a:ext cx="3602160" cy="1154160"/>
          </a:xfrm>
          <a:prstGeom prst="wedgeRoundRectCallout">
            <a:avLst>
              <a:gd name="adj1" fmla="val 64500"/>
              <a:gd name="adj2" fmla="val 90027"/>
              <a:gd name="adj3" fmla="val 16667"/>
            </a:avLst>
          </a:prstGeom>
          <a:gradFill rotWithShape="0">
            <a:gsLst>
              <a:gs pos="0">
                <a:srgbClr val="ff0000"/>
              </a:gs>
              <a:gs pos="100000">
                <a:srgbClr val="feada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Grazie! Ciao io mi chiamo Leo…tu chi se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 rot="18864600">
            <a:off x="402660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8864600">
            <a:off x="3116880" y="577764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8912600">
            <a:off x="4284720" y="5084280"/>
            <a:ext cx="636480" cy="6368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75040" y="5170320"/>
            <a:ext cx="1722240" cy="8607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19280" y="4365720"/>
            <a:ext cx="1800360" cy="1079280"/>
          </a:xfrm>
          <a:prstGeom prst="wedgeEllipseCallout">
            <a:avLst>
              <a:gd name="adj1" fmla="val 59699"/>
              <a:gd name="adj2" fmla="val 25148"/>
            </a:avLst>
          </a:prstGeom>
          <a:gradFill rotWithShape="0">
            <a:gsLst>
              <a:gs pos="0">
                <a:srgbClr val="99cc00"/>
              </a:gs>
              <a:gs pos="100000">
                <a:srgbClr val="e0ef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Yeeee! …Pass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630400" y="1996200"/>
            <a:ext cx="3084840" cy="2479680"/>
            <a:chOff x="5630400" y="1996200"/>
            <a:chExt cx="3084840" cy="2479680"/>
          </a:xfrm>
        </p:grpSpPr>
        <p:sp>
          <p:nvSpPr>
            <p:cNvPr id="299" name=""/>
            <p:cNvSpPr/>
            <p:nvPr/>
          </p:nvSpPr>
          <p:spPr>
            <a:xfrm rot="18841800">
              <a:off x="6732360" y="2805120"/>
              <a:ext cx="636480" cy="63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9896400">
              <a:off x="5724000" y="2341080"/>
              <a:ext cx="785880" cy="8240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0800000">
              <a:off x="6157440" y="3094200"/>
              <a:ext cx="1722600" cy="8604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 rot="19978800">
              <a:off x="7308000" y="2276280"/>
              <a:ext cx="1360800" cy="528840"/>
            </a:xfrm>
            <a:prstGeom prst="parallelogram">
              <a:avLst>
                <a:gd name="adj" fmla="val 6432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4243800">
              <a:off x="6084720" y="3714840"/>
              <a:ext cx="704520" cy="6444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2258600">
              <a:off x="7237440" y="3670560"/>
              <a:ext cx="604800" cy="60336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7667640" y="1413000"/>
            <a:ext cx="108108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219640" y="1125360"/>
            <a:ext cx="2087640" cy="793800"/>
          </a:xfrm>
          <a:prstGeom prst="wedgeRoundRectCallout">
            <a:avLst>
              <a:gd name="adj1" fmla="val 26046"/>
              <a:gd name="adj2" fmla="val 135199"/>
              <a:gd name="adj3" fmla="val 16667"/>
            </a:avLst>
          </a:prstGeom>
          <a:gradFill rotWithShape="0">
            <a:gsLst>
              <a:gs pos="0">
                <a:srgbClr val="ff0000"/>
              </a:gs>
              <a:gs pos="100000">
                <a:srgbClr val="feada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Certo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 rot="18864600">
            <a:off x="317736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18864600">
            <a:off x="226764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18912600">
            <a:off x="3421080" y="5084280"/>
            <a:ext cx="636480" cy="6368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24000" y="5157720"/>
            <a:ext cx="1722600" cy="8604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630400" y="1996200"/>
            <a:ext cx="3084840" cy="2479680"/>
            <a:chOff x="5630400" y="1996200"/>
            <a:chExt cx="3084840" cy="2479680"/>
          </a:xfrm>
        </p:grpSpPr>
        <p:sp>
          <p:nvSpPr>
            <p:cNvPr id="313" name=""/>
            <p:cNvSpPr/>
            <p:nvPr/>
          </p:nvSpPr>
          <p:spPr>
            <a:xfrm rot="18841800">
              <a:off x="6732360" y="2805120"/>
              <a:ext cx="636480" cy="63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9896400">
              <a:off x="5724000" y="2341080"/>
              <a:ext cx="785880" cy="8240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0800000">
              <a:off x="6157440" y="3094200"/>
              <a:ext cx="1722600" cy="8604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 rot="19978800">
              <a:off x="7308000" y="2276280"/>
              <a:ext cx="1360800" cy="528840"/>
            </a:xfrm>
            <a:prstGeom prst="parallelogram">
              <a:avLst>
                <a:gd name="adj" fmla="val 6432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4243800">
              <a:off x="6084720" y="3714840"/>
              <a:ext cx="704520" cy="6444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2258600">
              <a:off x="7237440" y="3670560"/>
              <a:ext cx="604800" cy="60336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4788000" y="3284640"/>
            <a:ext cx="108108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03640" y="549360"/>
            <a:ext cx="2594160" cy="865080"/>
          </a:xfrm>
          <a:prstGeom prst="wedgeRoundRectCallout">
            <a:avLst>
              <a:gd name="adj1" fmla="val 29500"/>
              <a:gd name="adj2" fmla="val 181745"/>
              <a:gd name="adj3" fmla="val 16667"/>
            </a:avLst>
          </a:prstGeom>
          <a:gradFill rotWithShape="0">
            <a:gsLst>
              <a:gs pos="0">
                <a:srgbClr val="ff0000"/>
              </a:gs>
              <a:gs pos="100000">
                <a:srgbClr val="feada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cc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224840" y="5146560"/>
            <a:ext cx="1722240" cy="8604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864600">
            <a:off x="8276400" y="576648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864600">
            <a:off x="7366680" y="576648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8912600">
            <a:off x="6516720" y="558936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68840" y="2986200"/>
            <a:ext cx="3025800" cy="2087280"/>
          </a:xfrm>
          <a:prstGeom prst="cloudCallout">
            <a:avLst>
              <a:gd name="adj1" fmla="val -20777"/>
              <a:gd name="adj2" fmla="val 77986"/>
            </a:avLst>
          </a:prstGeom>
          <a:gradFill rotWithShape="0">
            <a:gsLst>
              <a:gs pos="0">
                <a:srgbClr val="99cc00"/>
              </a:gs>
              <a:gs pos="100000">
                <a:srgbClr val="ddeda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Kristen ITC"/>
              </a:rPr>
              <a:t>Come è grande il mare!!! Però che noia: non c’è nessuno con cui gioca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 rot="18864600">
            <a:off x="317736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18864600">
            <a:off x="226764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124000" y="5157720"/>
            <a:ext cx="1722600" cy="8604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630400" y="2404080"/>
            <a:ext cx="3084840" cy="2479680"/>
            <a:chOff x="5630400" y="2404080"/>
            <a:chExt cx="3084840" cy="2479680"/>
          </a:xfrm>
        </p:grpSpPr>
        <p:sp>
          <p:nvSpPr>
            <p:cNvPr id="326" name=""/>
            <p:cNvSpPr/>
            <p:nvPr/>
          </p:nvSpPr>
          <p:spPr>
            <a:xfrm rot="18841800">
              <a:off x="6732360" y="3213000"/>
              <a:ext cx="636480" cy="63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9896400">
              <a:off x="5724000" y="2748960"/>
              <a:ext cx="785880" cy="8240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0800000">
              <a:off x="6157440" y="3502080"/>
              <a:ext cx="1722600" cy="8604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 rot="19978800">
              <a:off x="7308000" y="2684160"/>
              <a:ext cx="1360800" cy="528840"/>
            </a:xfrm>
            <a:prstGeom prst="parallelogram">
              <a:avLst>
                <a:gd name="adj" fmla="val 6432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4243800">
              <a:off x="6084720" y="4122720"/>
              <a:ext cx="704520" cy="6444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2258600">
              <a:off x="7237440" y="4078440"/>
              <a:ext cx="604800" cy="60336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492360" y="4653000"/>
            <a:ext cx="108108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19280" y="3933720"/>
            <a:ext cx="1800360" cy="1079640"/>
          </a:xfrm>
          <a:prstGeom prst="wedgeEllipseCallout">
            <a:avLst>
              <a:gd name="adj1" fmla="val 49472"/>
              <a:gd name="adj2" fmla="val 47203"/>
            </a:avLst>
          </a:prstGeom>
          <a:gradFill rotWithShape="0">
            <a:gsLst>
              <a:gs pos="0">
                <a:srgbClr val="99cc00"/>
              </a:gs>
              <a:gs pos="100000">
                <a:srgbClr val="e0ef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Pres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8912600">
            <a:off x="3421080" y="5084280"/>
            <a:ext cx="636480" cy="6368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 rot="18864600">
            <a:off x="317736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8864600">
            <a:off x="226764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24000" y="5157720"/>
            <a:ext cx="1722600" cy="8604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486040" y="3051720"/>
            <a:ext cx="3084840" cy="2479680"/>
            <a:chOff x="5486040" y="3051720"/>
            <a:chExt cx="3084840" cy="2479680"/>
          </a:xfrm>
        </p:grpSpPr>
        <p:sp>
          <p:nvSpPr>
            <p:cNvPr id="340" name=""/>
            <p:cNvSpPr/>
            <p:nvPr/>
          </p:nvSpPr>
          <p:spPr>
            <a:xfrm rot="18841800">
              <a:off x="6588000" y="3860640"/>
              <a:ext cx="636480" cy="63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9896400">
              <a:off x="5579640" y="3396600"/>
              <a:ext cx="785880" cy="8240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0800000">
              <a:off x="6013080" y="4149720"/>
              <a:ext cx="1722600" cy="8604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 rot="19978800">
              <a:off x="7163640" y="3331800"/>
              <a:ext cx="1360800" cy="528840"/>
            </a:xfrm>
            <a:prstGeom prst="parallelogram">
              <a:avLst>
                <a:gd name="adj" fmla="val 6432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4243800">
              <a:off x="5940360" y="4770360"/>
              <a:ext cx="704520" cy="6444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2258600">
              <a:off x="7093080" y="4726080"/>
              <a:ext cx="604800" cy="60336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3492360" y="4653000"/>
            <a:ext cx="108108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8912600">
            <a:off x="3421080" y="5084280"/>
            <a:ext cx="636480" cy="6368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7240" y="152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ffffff"/>
                </a:solidFill>
                <a:latin typeface="Kristen ITC"/>
              </a:rPr>
              <a:t>Chi trova un amico trova…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411200" y="307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Mor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762200" y="3500280"/>
            <a:ext cx="70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ffffff"/>
                </a:solidFill>
                <a:latin typeface="Kristen ITC"/>
              </a:rPr>
              <a:t>…</a:t>
            </a:r>
            <a:r>
              <a:rPr b="0" lang="it-IT" sz="6600" spc="-1" strike="noStrike">
                <a:solidFill>
                  <a:srgbClr val="ffffff"/>
                </a:solidFill>
                <a:latin typeface="Kristen ITC"/>
              </a:rPr>
              <a:t>un tesoro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4000" y="5157720"/>
            <a:ext cx="1722600" cy="8604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8864600">
            <a:off x="7855560" y="577764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8864600">
            <a:off x="694620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912600">
            <a:off x="6095880" y="5600520"/>
            <a:ext cx="63684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-1114920" y="2564640"/>
            <a:ext cx="1722240" cy="860400"/>
          </a:xfrm>
          <a:prstGeom prst="triangle">
            <a:avLst>
              <a:gd name="adj" fmla="val 50000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rot="5400000">
            <a:off x="-177480" y="2561400"/>
            <a:ext cx="1722240" cy="866520"/>
          </a:xfrm>
          <a:prstGeom prst="triangle">
            <a:avLst>
              <a:gd name="adj" fmla="val 48662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3609200">
            <a:off x="-541800" y="1745280"/>
            <a:ext cx="604800" cy="60336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3576800">
            <a:off x="-569160" y="3616560"/>
            <a:ext cx="604800" cy="60336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3573360"/>
            <a:ext cx="3024000" cy="1440000"/>
          </a:xfrm>
          <a:prstGeom prst="cloudCallout">
            <a:avLst>
              <a:gd name="adj1" fmla="val -24856"/>
              <a:gd name="adj2" fmla="val 80981"/>
            </a:avLst>
          </a:prstGeom>
          <a:gradFill rotWithShape="0">
            <a:gsLst>
              <a:gs pos="0">
                <a:srgbClr val="99cc00"/>
              </a:gs>
              <a:gs pos="100000">
                <a:srgbClr val="e4f1b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Kristen ITC"/>
              </a:rPr>
              <a:t>Oh guarda: arriva qualcun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Kristen ITC"/>
              </a:rPr>
              <a:t>…</a:t>
            </a:r>
            <a:r>
              <a:rPr b="0" lang="it-IT" sz="1800" spc="-1" strike="noStrike">
                <a:solidFill>
                  <a:srgbClr val="333399"/>
                </a:solidFill>
                <a:latin typeface="Kristen ITC"/>
              </a:rPr>
              <a:t>chi sarà mai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588000" y="5157720"/>
            <a:ext cx="1722600" cy="8604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8864600">
            <a:off x="763992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8864600">
            <a:off x="673020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8912600">
            <a:off x="5880240" y="560052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03640" y="4076640"/>
            <a:ext cx="2880000" cy="936720"/>
          </a:xfrm>
          <a:prstGeom prst="wedgeRoundRectCallout">
            <a:avLst>
              <a:gd name="adj1" fmla="val -21500"/>
              <a:gd name="adj2" fmla="val 118476"/>
              <a:gd name="adj3" fmla="val 16667"/>
            </a:avLst>
          </a:prstGeom>
          <a:gradFill rotWithShape="0">
            <a:gsLst>
              <a:gs pos="0">
                <a:srgbClr val="99cc00"/>
              </a:gs>
              <a:gs pos="100000">
                <a:srgbClr val="cde58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Kristen ITC"/>
              </a:rPr>
              <a:t>Ciao pesciolino! Io mi chiamo Kate! Tu chi se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3440" y="1643760"/>
            <a:ext cx="3298680" cy="2751840"/>
            <a:chOff x="163440" y="1643760"/>
            <a:chExt cx="3298680" cy="2751840"/>
          </a:xfrm>
        </p:grpSpPr>
        <p:sp>
          <p:nvSpPr>
            <p:cNvPr id="69" name=""/>
            <p:cNvSpPr/>
            <p:nvPr/>
          </p:nvSpPr>
          <p:spPr>
            <a:xfrm rot="16200000">
              <a:off x="921240" y="2580840"/>
              <a:ext cx="1783800" cy="891000"/>
            </a:xfrm>
            <a:prstGeom prst="triangle">
              <a:avLst>
                <a:gd name="adj" fmla="val 50000"/>
              </a:avLst>
            </a:prstGeom>
            <a:solidFill>
              <a:srgbClr val="ffae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880280" y="2577960"/>
              <a:ext cx="1783800" cy="896760"/>
            </a:xfrm>
            <a:prstGeom prst="triangle">
              <a:avLst>
                <a:gd name="adj" fmla="val 48662"/>
              </a:avLst>
            </a:prstGeom>
            <a:solidFill>
              <a:srgbClr val="ffae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3609200">
              <a:off x="1475640" y="1773360"/>
              <a:ext cx="626760" cy="625680"/>
            </a:xfrm>
            <a:prstGeom prst="rtTriangle">
              <a:avLst/>
            </a:prstGeom>
            <a:solidFill>
              <a:srgbClr val="ffae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3576800">
              <a:off x="1476360" y="3641040"/>
              <a:ext cx="626760" cy="624240"/>
            </a:xfrm>
            <a:prstGeom prst="rtTriangle">
              <a:avLst/>
            </a:prstGeom>
            <a:solidFill>
              <a:srgbClr val="ffae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3417200">
              <a:off x="345600" y="2624400"/>
              <a:ext cx="813960" cy="853920"/>
            </a:xfrm>
            <a:prstGeom prst="rtTriangle">
              <a:avLst/>
            </a:prstGeom>
            <a:solidFill>
              <a:srgbClr val="ffae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17960" y="2170080"/>
              <a:ext cx="223560" cy="223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12000" y="2559960"/>
              <a:ext cx="150120" cy="150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17960" y="2689560"/>
              <a:ext cx="150120" cy="150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359400" y="5086440"/>
            <a:ext cx="1722600" cy="8604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8864600">
            <a:off x="7411320" y="570636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8864600">
            <a:off x="6501600" y="570636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8912600">
            <a:off x="5651640" y="552888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4005360"/>
            <a:ext cx="2879640" cy="936360"/>
          </a:xfrm>
          <a:prstGeom prst="wedgeRoundRectCallout">
            <a:avLst>
              <a:gd name="adj1" fmla="val -21500"/>
              <a:gd name="adj2" fmla="val 118476"/>
              <a:gd name="adj3" fmla="val 16667"/>
            </a:avLst>
          </a:prstGeom>
          <a:gradFill rotWithShape="0">
            <a:gsLst>
              <a:gs pos="0">
                <a:srgbClr val="99cc00"/>
              </a:gs>
              <a:gs pos="100000">
                <a:srgbClr val="c3e06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Kristen ITC"/>
              </a:rPr>
              <a:t>Hey!!!! Mi senti? Sono qui! Perché non mi rispon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86400" y="1643760"/>
            <a:ext cx="3298320" cy="2751840"/>
            <a:chOff x="986400" y="1643760"/>
            <a:chExt cx="3298320" cy="2751840"/>
          </a:xfrm>
        </p:grpSpPr>
        <p:sp>
          <p:nvSpPr>
            <p:cNvPr id="84" name=""/>
            <p:cNvSpPr/>
            <p:nvPr/>
          </p:nvSpPr>
          <p:spPr>
            <a:xfrm rot="16200000">
              <a:off x="1743480" y="2580840"/>
              <a:ext cx="1783800" cy="890640"/>
            </a:xfrm>
            <a:prstGeom prst="triangle">
              <a:avLst>
                <a:gd name="adj" fmla="val 50000"/>
              </a:avLst>
            </a:prstGeom>
            <a:solidFill>
              <a:srgbClr val="ffae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rot="5400000">
              <a:off x="2702880" y="2577960"/>
              <a:ext cx="1783800" cy="896760"/>
            </a:xfrm>
            <a:prstGeom prst="triangle">
              <a:avLst>
                <a:gd name="adj" fmla="val 48662"/>
              </a:avLst>
            </a:prstGeom>
            <a:solidFill>
              <a:srgbClr val="ffae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3609200">
              <a:off x="2297880" y="1773360"/>
              <a:ext cx="626760" cy="625680"/>
            </a:xfrm>
            <a:prstGeom prst="rtTriangle">
              <a:avLst/>
            </a:prstGeom>
            <a:solidFill>
              <a:srgbClr val="ffae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3576800">
              <a:off x="2298600" y="3641040"/>
              <a:ext cx="626760" cy="624240"/>
            </a:xfrm>
            <a:prstGeom prst="rtTriangle">
              <a:avLst/>
            </a:prstGeom>
            <a:solidFill>
              <a:srgbClr val="ffae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3417200">
              <a:off x="1168560" y="2624400"/>
              <a:ext cx="813600" cy="853920"/>
            </a:xfrm>
            <a:prstGeom prst="rtTriangle">
              <a:avLst/>
            </a:prstGeom>
            <a:solidFill>
              <a:srgbClr val="ffae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40200" y="2170080"/>
              <a:ext cx="223560" cy="223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34600" y="2559960"/>
              <a:ext cx="150120" cy="150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40200" y="2689560"/>
              <a:ext cx="150120" cy="150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5099040"/>
            <a:ext cx="1722240" cy="8604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8864600">
            <a:off x="7207920" y="570636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8864600">
            <a:off x="6298200" y="570636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8912600">
            <a:off x="5448240" y="545760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701080" y="2564640"/>
            <a:ext cx="1722240" cy="860400"/>
          </a:xfrm>
          <a:prstGeom prst="triangle">
            <a:avLst>
              <a:gd name="adj" fmla="val 50000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rot="5400000">
            <a:off x="3637800" y="2561400"/>
            <a:ext cx="1722240" cy="866880"/>
          </a:xfrm>
          <a:prstGeom prst="triangle">
            <a:avLst>
              <a:gd name="adj" fmla="val 48662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3609200">
            <a:off x="3247200" y="1745280"/>
            <a:ext cx="604800" cy="60336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3576800">
            <a:off x="3246840" y="3616560"/>
            <a:ext cx="604800" cy="60336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3417200">
            <a:off x="2123640" y="2604240"/>
            <a:ext cx="785880" cy="82404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4292640"/>
            <a:ext cx="2952720" cy="649080"/>
          </a:xfrm>
          <a:prstGeom prst="wedgeRoundRectCallout">
            <a:avLst>
              <a:gd name="adj1" fmla="val -22203"/>
              <a:gd name="adj2" fmla="val 148777"/>
              <a:gd name="adj3" fmla="val 16667"/>
            </a:avLst>
          </a:prstGeom>
          <a:gradFill rotWithShape="0">
            <a:gsLst>
              <a:gs pos="0">
                <a:srgbClr val="99cc00"/>
              </a:gs>
              <a:gs pos="100000">
                <a:srgbClr val="d4e9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Kristen ITC"/>
              </a:rPr>
              <a:t>Pesciolino?!?!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213372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2637000"/>
            <a:ext cx="73080" cy="7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2421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19177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156360" y="5170320"/>
            <a:ext cx="1722240" cy="8607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8864600">
            <a:off x="7207920" y="577764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8864600">
            <a:off x="6298200" y="577764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912600">
            <a:off x="5448240" y="552888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3564720" y="2564640"/>
            <a:ext cx="1722240" cy="860400"/>
          </a:xfrm>
          <a:prstGeom prst="triangle">
            <a:avLst>
              <a:gd name="adj" fmla="val 50000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rot="5400000">
            <a:off x="4501440" y="2561400"/>
            <a:ext cx="1722240" cy="866880"/>
          </a:xfrm>
          <a:prstGeom prst="triangle">
            <a:avLst>
              <a:gd name="adj" fmla="val 48662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3609200">
            <a:off x="4110840" y="1745280"/>
            <a:ext cx="604800" cy="60336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576800">
            <a:off x="4112280" y="3616920"/>
            <a:ext cx="604800" cy="60300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3417200">
            <a:off x="2987280" y="2604240"/>
            <a:ext cx="785880" cy="82404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363920"/>
            <a:ext cx="2952720" cy="649440"/>
          </a:xfrm>
          <a:prstGeom prst="wedgeRoundRectCallout">
            <a:avLst>
              <a:gd name="adj1" fmla="val -22203"/>
              <a:gd name="adj2" fmla="val 148777"/>
              <a:gd name="adj3" fmla="val 16667"/>
            </a:avLst>
          </a:prstGeom>
          <a:gradFill rotWithShape="0">
            <a:gsLst>
              <a:gs pos="0">
                <a:srgbClr val="99cc00"/>
              </a:gs>
              <a:gs pos="100000">
                <a:srgbClr val="cde58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Kristen ITC"/>
              </a:rPr>
              <a:t>Ma dai aspetta, gioca un po’ con m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91280" y="2637000"/>
            <a:ext cx="72720" cy="7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62560" y="2421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35640" y="19177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rot="8107200">
            <a:off x="4930920" y="3429000"/>
            <a:ext cx="1087200" cy="339840"/>
          </a:xfrm>
          <a:prstGeom prst="parallelogram">
            <a:avLst>
              <a:gd name="adj" fmla="val 79979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19640" y="1628640"/>
            <a:ext cx="3384720" cy="1079640"/>
          </a:xfrm>
          <a:prstGeom prst="wedgeEllipseCallout">
            <a:avLst>
              <a:gd name="adj1" fmla="val -26736"/>
              <a:gd name="adj2" fmla="val 88972"/>
            </a:avLst>
          </a:prstGeom>
          <a:gradFill rotWithShape="0">
            <a:gsLst>
              <a:gs pos="0">
                <a:srgbClr val="ffae37"/>
              </a:gs>
              <a:gs pos="100000">
                <a:srgbClr val="fed7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Ho fretta, devo anda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156360" y="5170320"/>
            <a:ext cx="1722240" cy="8607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8864600">
            <a:off x="7207920" y="577764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8864600">
            <a:off x="6298200" y="577764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8912600">
            <a:off x="5448240" y="552888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4720680" y="2564640"/>
            <a:ext cx="1722240" cy="860400"/>
          </a:xfrm>
          <a:prstGeom prst="triangle">
            <a:avLst>
              <a:gd name="adj" fmla="val 50000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rot="5400000">
            <a:off x="5657040" y="2561400"/>
            <a:ext cx="1722240" cy="866880"/>
          </a:xfrm>
          <a:prstGeom prst="triangle">
            <a:avLst>
              <a:gd name="adj" fmla="val 48662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3609200">
            <a:off x="5266440" y="1745280"/>
            <a:ext cx="604800" cy="60336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3576800">
            <a:off x="5191560" y="3573720"/>
            <a:ext cx="604800" cy="60336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3417200">
            <a:off x="4142880" y="2604240"/>
            <a:ext cx="785880" cy="82404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7240" y="2637000"/>
            <a:ext cx="73080" cy="7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42080" y="234936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51600" y="19177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58080" y="2276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-3127680" y="2196360"/>
            <a:ext cx="4872960" cy="3074400"/>
            <a:chOff x="-3127680" y="2196360"/>
            <a:chExt cx="4872960" cy="3074400"/>
          </a:xfrm>
        </p:grpSpPr>
        <p:sp>
          <p:nvSpPr>
            <p:cNvPr id="139" name=""/>
            <p:cNvSpPr/>
            <p:nvPr/>
          </p:nvSpPr>
          <p:spPr>
            <a:xfrm rot="7198800">
              <a:off x="-946800" y="4102560"/>
              <a:ext cx="957600" cy="100440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4681200">
              <a:off x="-1753200" y="2807280"/>
              <a:ext cx="209916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 rot="25200">
              <a:off x="84240" y="3764160"/>
              <a:ext cx="1658520" cy="644400"/>
            </a:xfrm>
            <a:prstGeom prst="parallelogram">
              <a:avLst>
                <a:gd name="adj" fmla="val 64344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0884800">
              <a:off x="-2901960" y="2549160"/>
              <a:ext cx="859320" cy="78516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8066600">
              <a:off x="-428040" y="3437280"/>
              <a:ext cx="775800" cy="775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7293600">
              <a:off x="-2989800" y="3511080"/>
              <a:ext cx="736920" cy="73548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954200">
              <a:off x="-2638800" y="2984760"/>
              <a:ext cx="210024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56360" y="5170320"/>
            <a:ext cx="1722240" cy="8607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8864600">
            <a:off x="7207920" y="577764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8864600">
            <a:off x="6298200" y="577764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8912600">
            <a:off x="5448240" y="552888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6293520" y="2016360"/>
            <a:ext cx="1722600" cy="860400"/>
          </a:xfrm>
          <a:prstGeom prst="triangle">
            <a:avLst>
              <a:gd name="adj" fmla="val 50000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rot="5400000">
            <a:off x="7229520" y="2013480"/>
            <a:ext cx="1722600" cy="866520"/>
          </a:xfrm>
          <a:prstGeom prst="triangle">
            <a:avLst>
              <a:gd name="adj" fmla="val 48662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3609200">
            <a:off x="6839640" y="1197720"/>
            <a:ext cx="604800" cy="60336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3576800">
            <a:off x="6847560" y="3069360"/>
            <a:ext cx="604800" cy="60300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3417200">
            <a:off x="5716080" y="2056680"/>
            <a:ext cx="785880" cy="82404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531280" y="208908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675640" y="1944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531280" y="12254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458200" y="158580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-1774440" y="2177640"/>
            <a:ext cx="4885920" cy="3050280"/>
            <a:chOff x="-1774440" y="2177640"/>
            <a:chExt cx="4885920" cy="3050280"/>
          </a:xfrm>
        </p:grpSpPr>
        <p:sp>
          <p:nvSpPr>
            <p:cNvPr id="161" name=""/>
            <p:cNvSpPr/>
            <p:nvPr/>
          </p:nvSpPr>
          <p:spPr>
            <a:xfrm rot="6898200">
              <a:off x="448200" y="4079520"/>
              <a:ext cx="957600" cy="100440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4380600">
              <a:off x="-468000" y="2810160"/>
              <a:ext cx="209916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 rot="21325200">
              <a:off x="1429560" y="3622320"/>
              <a:ext cx="1658520" cy="644400"/>
            </a:xfrm>
            <a:prstGeom prst="parallelogram">
              <a:avLst>
                <a:gd name="adj" fmla="val 64344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584200">
              <a:off x="-1643760" y="2707560"/>
              <a:ext cx="859320" cy="78516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7766000">
              <a:off x="897480" y="3379680"/>
              <a:ext cx="775800" cy="775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6993000">
              <a:off x="-1648800" y="3678840"/>
              <a:ext cx="736920" cy="73548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53600">
              <a:off x="-1334160" y="3063600"/>
              <a:ext cx="210024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059280" y="3573360"/>
            <a:ext cx="3311280" cy="1798920"/>
          </a:xfrm>
          <a:prstGeom prst="wedgeEllipseCallout">
            <a:avLst>
              <a:gd name="adj1" fmla="val 26893"/>
              <a:gd name="adj2" fmla="val 54236"/>
            </a:avLst>
          </a:prstGeom>
          <a:gradFill rotWithShape="0">
            <a:gsLst>
              <a:gs pos="0">
                <a:srgbClr val="99cc00"/>
              </a:gs>
              <a:gs pos="100000">
                <a:srgbClr val="cae47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Kristen ITC"/>
              </a:rPr>
              <a:t>Per fortuna arriva un nuovo amico… Chiederò a lui di giocare con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3:28:30Z</dcterms:created>
  <dc:creator>admin_ins</dc:creator>
  <dc:description/>
  <dc:language>en-US</dc:language>
  <cp:lastModifiedBy>pinco pallo</cp:lastModifiedBy>
  <dcterms:modified xsi:type="dcterms:W3CDTF">2010-03-26T10:04:58Z</dcterms:modified>
  <cp:revision>8</cp:revision>
  <dc:subject/>
  <dc:title>Diapositiva 1</dc:title>
</cp:coreProperties>
</file>