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A9AE-9C26-47B8-827A-FA9860AA6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B34F-0870-4837-86BE-C436B20A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FF26-5639-4E4A-BFF7-376E3B35C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5AEC-46F9-4F2F-958A-283A9F1A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DBEC-58FE-4EA3-9E6B-FA06376B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72DF-1AD2-4FDA-B0AF-674E5D21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6F74-4F7A-4428-B6FB-CDAC1F1D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D885-276B-4370-B08D-FF6DD31C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E402-38ED-4A86-9C20-DA8BBC0F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5480-7B43-435E-AE84-0D262509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9DE5-4A00-4129-AA43-5554EC6F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D89A-1BF1-4A7A-9473-8E61DB86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CFA5-30BF-4FE5-9FBF-5B3BE7FC1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l Profesion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nuntut kemampuan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lbertus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bertus Extra Bold"/>
              </a:rPr>
              <a:t>Kerja Ikhlas, kecerdasan spirit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lbertus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bertus Extra Bold"/>
              </a:rPr>
              <a:t>Kerja Mawas, kecerdasan emo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lbertus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bertus Extra Bold"/>
              </a:rPr>
              <a:t>Kerja Cerdas, kecerdasan intelekt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lbertus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bertus Extra Bold"/>
              </a:rPr>
              <a:t>Kerja  Keras, keceradasan  fis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lbertus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bertus Extra Bold"/>
              </a:rPr>
              <a:t>Kerja Tuntas,  penguasaan  teknolo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mal dikerjakan sesuai dengan ahlinya, dimulai dari yang kecil  dan kontimyu  hingga  mencapi cita-c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Console"/>
              </a:rPr>
              <a:t>Misi  kami membangun 4 kekuatan dasar  manu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Lucida Conso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K04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990720"/>
            <a:ext cx="3520800" cy="497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rek 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anan k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 meter tali ni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sit su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manas por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buah pistol kaliber 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at  susu mi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tangki oksigen 50 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ta  tantang bu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ket  astro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pas maknet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 liter 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nda bahay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alatan P3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 FM tenaga sury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249400" y="1066680"/>
            <a:ext cx="436680" cy="46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2900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5627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3716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0080" y="209520"/>
            <a:ext cx="655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eralatan  untuk Ekspedisi ke Bu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6095880"/>
            <a:ext cx="57578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entury Gothic"/>
              </a:rPr>
              <a:t>10.9.8.7.6.5.4.3.2.1.0 deem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7T12:52:36Z</dcterms:created>
  <dc:creator>Jundi</dc:creator>
  <dc:description/>
  <dc:language>en-US</dc:language>
  <cp:lastModifiedBy>Jundi</cp:lastModifiedBy>
  <dcterms:modified xsi:type="dcterms:W3CDTF">2001-08-17T12:54:11Z</dcterms:modified>
  <cp:revision>1</cp:revision>
  <dc:subject/>
  <dc:title>Amal Profesional </dc:title>
</cp:coreProperties>
</file>