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34E-8455-4F0F-B11B-1E5B0294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987-A34B-445E-A886-76D0A07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F46-C1B0-4FAF-8F4C-AAB9799C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B4E-0E0E-4071-A382-276BDC47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F75-89C5-4185-939C-E48F5B39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26E-E878-4BD8-A71F-A352216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388-3036-4326-9DD3-37E8A9E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0D9-33D3-404B-B44F-54E19DA4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61E-B254-4A21-97E3-30E8058B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081-68DF-4E7F-AFD1-7C2AA95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739-9DFF-4508-8C19-A068D5F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51D-BB5E-4C7F-814B-4058EA3C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691B-9C93-4FB0-8447-6763F9A4C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l Profesio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ntut kemampua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Ikhlas, kecerdasan spiri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Mawas, kecerdasan emo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Cerdas, kecerdasan intelek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 Keras, keceradasan  fis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Tuntas,  penguasaan  teknolo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mal dikerjakan sesuai dengan ahlinya, dimulai dari yang kecil  dan kontimyu  hingga  mencapi cita-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Misi  kami membangun 4 kekuatan dasar  manu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Lucida Conso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0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990720"/>
            <a:ext cx="35208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k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anan k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meter tali ni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sit s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manas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buah pistol kaliber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at  susu mi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tangki oksigen 50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a  tantang bu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et  astro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as makne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liter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nda bah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latan P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FM tenaga sur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9400" y="1066680"/>
            <a:ext cx="43668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371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" y="209520"/>
            <a:ext cx="65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alatan  untuk Ekspedisi ke Bu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6095880"/>
            <a:ext cx="5757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10.9.8.7.6.5.4.3.2.1.0 de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2:52:36Z</dcterms:created>
  <dc:creator>Jundi</dc:creator>
  <dc:description/>
  <dc:language>en-US</dc:language>
  <cp:lastModifiedBy>Jundi</cp:lastModifiedBy>
  <dcterms:modified xsi:type="dcterms:W3CDTF">2001-08-17T12:54:11Z</dcterms:modified>
  <cp:revision>1</cp:revision>
  <dc:subject/>
  <dc:title>Amal Profesional </dc:title>
</cp:coreProperties>
</file>