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C0D-07AA-483E-A0F8-AB5AA5A4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8B6-7DA8-4C7D-93FF-4B28B30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3B0-0E47-4D1C-B5A0-7BD84FC4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64B-3D37-4679-B626-CEB26AF5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DE1-7463-4D48-A31E-243008CC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D1E-6E1C-4F93-AC33-FD8825C8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240-2F6E-430E-AE93-F92070E3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BFC-FB6A-48C3-A71F-2E7BD15B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B12-07AB-421B-BF06-47BA23F2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5EC-FABE-4A2F-A313-22502A60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0A0-8DCA-4DAE-B4F3-649ACFD7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0CA-D454-4A1B-9DC9-998EA171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BF73B-B8A3-47B4-A7BD-760393DC7A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FDF24-3B36-4B73-BC6B-E8E63CAE7CA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5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6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5:48:42Z</dcterms:created>
  <dc:creator>최봉수</dc:creator>
  <dc:description/>
  <dc:language>en-US</dc:language>
  <cp:lastModifiedBy>맛있다 군만두</cp:lastModifiedBy>
  <dcterms:modified xsi:type="dcterms:W3CDTF">2024-10-01T03:06:30Z</dcterms:modified>
  <cp:revision>3</cp:revision>
  <dc:subject/>
  <dc:title>슬라이드 1</dc:title>
</cp:coreProperties>
</file>