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47B-3E24-49FD-9EC2-2DFA52D7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68B-308E-4DFB-9287-10FF6C46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5C6-D71F-4D65-A6E3-C739E57B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019-A361-4345-8DFB-A5961F3F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259-747F-4AD0-8BB8-A0D77E1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0FE-B7F3-4B4E-AB9B-E56AC07E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56E-D017-4695-9480-D3BFB41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E65-E478-43DF-802C-F48C1BB0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C60-BFEC-4AB9-B30C-30B3137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2CE-C845-4102-A127-39000D5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F2E-0FA0-4D65-9CED-E1C3D4D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512-6943-4AF9-80A8-0961A4C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C45EA-F0AF-4C09-9D60-E7E9086D13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1D932-2489-40C4-8B61-D13D1E50227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"/><Relationship Id="rId15" Type="http://schemas.openxmlformats.org/officeDocument/2006/relationships/image" Target="../media/image3.png"/><Relationship Id="rId16" Type="http://schemas.openxmlformats.org/officeDocument/2006/relationships/slide" Target="slide5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5:48:42Z</dcterms:created>
  <dc:creator>최봉수</dc:creator>
  <dc:description/>
  <dc:language>en-US</dc:language>
  <cp:lastModifiedBy>맛있다 군만두</cp:lastModifiedBy>
  <dcterms:modified xsi:type="dcterms:W3CDTF">2024-10-01T03:06:30Z</dcterms:modified>
  <cp:revision>3</cp:revision>
  <dc:subject/>
  <dc:title>슬라이드 1</dc:title>
</cp:coreProperties>
</file>