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481-BEE8-44B7-B5DF-7F01A854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1E7F-5AA7-43A5-841F-3C0CE4FE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049-5751-4FD3-B740-502A7196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06FD-BA1D-4096-84FA-93CD56CD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4343-AB5E-4F4C-8689-A8EAE44B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295-C224-4863-A192-1D180D1C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669-901E-4B40-9AD1-BCC0F870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7951-3018-4B40-979F-6C3BC514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7812-9D8E-4205-A393-4B9AB359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EEBF-A906-4920-AA8E-830EAD93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314-DA44-4915-A928-34BECDAD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EF7-446B-4E09-A484-C4F639D4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F064D-A114-4698-AD61-5DBE20E4B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8ACFB7-8723-4C55-9E84-27C45FAC51DC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image" Target="../media/image2.png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2.xml"/><Relationship Id="rId10" Type="http://schemas.openxmlformats.org/officeDocument/2006/relationships/image" Target="../media/image2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01:30:37Z</dcterms:created>
  <dc:creator>최봉수</dc:creator>
  <dc:description/>
  <dc:language>en-US</dc:language>
  <cp:lastModifiedBy>군만두 맛있다</cp:lastModifiedBy>
  <dcterms:modified xsi:type="dcterms:W3CDTF">2023-07-12T03:48:51Z</dcterms:modified>
  <cp:revision>2</cp:revision>
  <dc:subject/>
  <dc:title>슬라이드 1</dc:title>
</cp:coreProperties>
</file>