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372-6CCC-4AEB-A206-1BD0EC0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6B5-F5E8-4DBD-A147-2B83AAA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D64-36BC-485E-B5CA-C3C6ACF7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7EC-3534-404C-9483-149852C7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862-ABED-4C03-99FB-7EE41E36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B60-F786-4F62-8CFA-D88A9295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92D-1346-4DDF-AE10-4D9A8874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715-99EB-4170-8E8C-0BDA6E1C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E1E-FF15-4079-ABE6-F75AF0CD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E97-EC6E-4BED-A16C-D5C00E8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EB1-BEBA-4BDD-A70D-F80B0DF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B2D-B93D-4D28-8F38-7E1B4D4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DB78E-7483-4C12-A7B3-B4D0A3253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1BD95-60E0-4DE5-A8DA-541CED00F0C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2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1:30:37Z</dcterms:created>
  <dc:creator>최봉수</dc:creator>
  <dc:description/>
  <dc:language>en-US</dc:language>
  <cp:lastModifiedBy>군만두 맛있다</cp:lastModifiedBy>
  <dcterms:modified xsi:type="dcterms:W3CDTF">2023-07-12T03:48:51Z</dcterms:modified>
  <cp:revision>2</cp:revision>
  <dc:subject/>
  <dc:title>슬라이드 1</dc:title>
</cp:coreProperties>
</file>